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717BE-7A7F-482B-894B-9FCFB31D9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F1F5-92EF-4F13-B4AA-461C8A93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3A2FA-2F26-4D6B-B0BC-0B4A38BCE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0B57-0250-4C21-AE14-1039C5C45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2B7-2942-431A-8194-B97CF63D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915C-8452-443F-AA1F-E2B6D2220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7C2C-38FC-4532-B080-56EBC5A94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4867-3C71-40A8-A44A-9271F51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F0398-66EC-439F-8499-1CFA08B11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BF7-49EB-4C29-95C3-FB7116B2B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E5D-BBB2-471C-8A41-912B5247A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A2C-6626-42CE-A87D-36A1F6EC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5D598-7401-4D8B-A024-257274A5191E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BC7B4-91FE-40F0-9B49-B54515E5D2D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7"/>
          <p:cNvSpPr/>
          <p:nvPr/>
        </p:nvSpPr>
        <p:spPr>
          <a:xfrm>
            <a:off x="-1440" y="1743120"/>
            <a:ext cx="9146880" cy="2039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30360" y="1722600"/>
            <a:ext cx="7772400" cy="14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400" spc="-1" strike="noStrike" u="sng">
                <a:solidFill>
                  <a:srgbClr val="000000"/>
                </a:solidFill>
                <a:uFillTx/>
                <a:latin typeface="Franklin Gothic Medium"/>
              </a:rPr>
              <a:t>本章复习和总结</a:t>
            </a:r>
            <a:endParaRPr b="0" lang="en-US" sz="3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14440" y="2946240"/>
            <a:ext cx="6400800" cy="66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楷体_GB2312"/>
              </a:rPr>
              <a:t>八年级下册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文本框 4"/>
          <p:cNvSpPr/>
          <p:nvPr/>
        </p:nvSpPr>
        <p:spPr>
          <a:xfrm>
            <a:off x="35280" y="1528920"/>
            <a:ext cx="115524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浮力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左大括号"/>
          <p:cNvSpPr/>
          <p:nvPr/>
        </p:nvSpPr>
        <p:spPr>
          <a:xfrm flipH="1">
            <a:off x="1140840" y="703440"/>
            <a:ext cx="107640" cy="352584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8"/>
          <p:cNvSpPr/>
          <p:nvPr/>
        </p:nvSpPr>
        <p:spPr>
          <a:xfrm>
            <a:off x="1403280" y="757080"/>
            <a:ext cx="147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轮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9"/>
          <p:cNvSpPr/>
          <p:nvPr/>
        </p:nvSpPr>
        <p:spPr>
          <a:xfrm>
            <a:off x="2475000" y="766800"/>
            <a:ext cx="5902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制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空心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增大浮力，使浮力等于船和货物的总重来实现漂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10"/>
          <p:cNvSpPr/>
          <p:nvPr/>
        </p:nvSpPr>
        <p:spPr>
          <a:xfrm>
            <a:off x="1403280" y="183528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潜水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1"/>
          <p:cNvSpPr/>
          <p:nvPr/>
        </p:nvSpPr>
        <p:spPr>
          <a:xfrm>
            <a:off x="2876400" y="1874880"/>
            <a:ext cx="59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改变自身重力来实现浮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5"/>
          <p:cNvSpPr/>
          <p:nvPr/>
        </p:nvSpPr>
        <p:spPr>
          <a:xfrm>
            <a:off x="1362240" y="2868480"/>
            <a:ext cx="232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气球和飞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6"/>
          <p:cNvSpPr/>
          <p:nvPr/>
        </p:nvSpPr>
        <p:spPr>
          <a:xfrm>
            <a:off x="3683160" y="2878200"/>
            <a:ext cx="48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改变自身体积来实现升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1414440" y="3732120"/>
            <a:ext cx="15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密度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3067200" y="3732120"/>
            <a:ext cx="48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测量液体密度的仪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414360" y="501480"/>
            <a:ext cx="78962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是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物体的质量与体积的关系图象。分别用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i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两种物质制成两个规则的实心长方体甲和乙，下列说法正确的是（       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物体甲放入水中，一定漂浮在水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物体乙放入水中，一定沉入水底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体积相等的甲、乙两种物体捆在一起放入水中，一定漂浮在水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将质量相等的甲、乙两种物体捆在一起放入水中，一定漂浮在水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309600" y="417600"/>
            <a:ext cx="1546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073742867" descr="wh7"/>
          <p:cNvPicPr/>
          <p:nvPr/>
        </p:nvPicPr>
        <p:blipFill>
          <a:blip r:embed="rId1"/>
          <a:stretch/>
        </p:blipFill>
        <p:spPr>
          <a:xfrm>
            <a:off x="6886440" y="1436760"/>
            <a:ext cx="1944720" cy="16225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5"/>
          <p:cNvSpPr/>
          <p:nvPr/>
        </p:nvSpPr>
        <p:spPr>
          <a:xfrm>
            <a:off x="4044960" y="108000"/>
            <a:ext cx="40114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g/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0.5g/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叉"/>
          <p:cNvSpPr/>
          <p:nvPr/>
        </p:nvSpPr>
        <p:spPr>
          <a:xfrm>
            <a:off x="5286240" y="1969920"/>
            <a:ext cx="312840" cy="533520"/>
          </a:xfrm>
          <a:custGeom>
            <a:avLst/>
            <a:gdLst/>
            <a:ahLst/>
            <a:rect l="l" t="t" r="r" b="b"/>
            <a:pathLst>
              <a:path w="5381" h="6858">
                <a:moveTo>
                  <a:pt x="3810" y="3340"/>
                </a:moveTo>
                <a:cubicBezTo>
                  <a:pt x="4543" y="4911"/>
                  <a:pt x="4543" y="4911"/>
                  <a:pt x="4543" y="4911"/>
                </a:cubicBezTo>
                <a:cubicBezTo>
                  <a:pt x="4515" y="4977"/>
                  <a:pt x="4478" y="5014"/>
                  <a:pt x="4412" y="5043"/>
                </a:cubicBezTo>
                <a:cubicBezTo>
                  <a:pt x="4412" y="5118"/>
                  <a:pt x="4412" y="5118"/>
                  <a:pt x="4412" y="5118"/>
                </a:cubicBezTo>
                <a:cubicBezTo>
                  <a:pt x="4374" y="5156"/>
                  <a:pt x="4223" y="5212"/>
                  <a:pt x="4223" y="5269"/>
                </a:cubicBezTo>
                <a:cubicBezTo>
                  <a:pt x="4223" y="5306"/>
                  <a:pt x="4252" y="5363"/>
                  <a:pt x="4270" y="5400"/>
                </a:cubicBezTo>
                <a:cubicBezTo>
                  <a:pt x="4252" y="5513"/>
                  <a:pt x="4073" y="5635"/>
                  <a:pt x="3960" y="5635"/>
                </a:cubicBezTo>
                <a:cubicBezTo>
                  <a:pt x="3838" y="5635"/>
                  <a:pt x="3649" y="5297"/>
                  <a:pt x="3602" y="5222"/>
                </a:cubicBezTo>
                <a:cubicBezTo>
                  <a:pt x="2718" y="3857"/>
                  <a:pt x="2718" y="3857"/>
                  <a:pt x="2718" y="3857"/>
                </a:cubicBezTo>
                <a:cubicBezTo>
                  <a:pt x="855" y="6746"/>
                  <a:pt x="855" y="6746"/>
                  <a:pt x="855" y="6746"/>
                </a:cubicBezTo>
                <a:cubicBezTo>
                  <a:pt x="743" y="6830"/>
                  <a:pt x="498" y="6858"/>
                  <a:pt x="366" y="6858"/>
                </a:cubicBezTo>
                <a:cubicBezTo>
                  <a:pt x="244" y="6858"/>
                  <a:pt x="225" y="6764"/>
                  <a:pt x="169" y="6670"/>
                </a:cubicBezTo>
                <a:cubicBezTo>
                  <a:pt x="112" y="6586"/>
                  <a:pt x="28" y="6482"/>
                  <a:pt x="28" y="6379"/>
                </a:cubicBezTo>
                <a:cubicBezTo>
                  <a:pt x="28" y="6322"/>
                  <a:pt x="37" y="6285"/>
                  <a:pt x="56" y="6228"/>
                </a:cubicBezTo>
                <a:cubicBezTo>
                  <a:pt x="75" y="6153"/>
                  <a:pt x="112" y="6097"/>
                  <a:pt x="47" y="6040"/>
                </a:cubicBezTo>
                <a:cubicBezTo>
                  <a:pt x="28" y="6021"/>
                  <a:pt x="0" y="6002"/>
                  <a:pt x="0" y="5974"/>
                </a:cubicBezTo>
                <a:cubicBezTo>
                  <a:pt x="0" y="5852"/>
                  <a:pt x="159" y="5626"/>
                  <a:pt x="225" y="5513"/>
                </a:cubicBezTo>
                <a:cubicBezTo>
                  <a:pt x="451" y="5128"/>
                  <a:pt x="451" y="5128"/>
                  <a:pt x="451" y="5128"/>
                </a:cubicBezTo>
                <a:cubicBezTo>
                  <a:pt x="837" y="4450"/>
                  <a:pt x="1552" y="3603"/>
                  <a:pt x="2060" y="2992"/>
                </a:cubicBezTo>
                <a:cubicBezTo>
                  <a:pt x="2172" y="2860"/>
                  <a:pt x="2172" y="2860"/>
                  <a:pt x="2172" y="2860"/>
                </a:cubicBezTo>
                <a:cubicBezTo>
                  <a:pt x="1476" y="941"/>
                  <a:pt x="1476" y="941"/>
                  <a:pt x="1476" y="941"/>
                </a:cubicBezTo>
                <a:cubicBezTo>
                  <a:pt x="1448" y="866"/>
                  <a:pt x="1373" y="706"/>
                  <a:pt x="1373" y="621"/>
                </a:cubicBezTo>
                <a:cubicBezTo>
                  <a:pt x="1373" y="556"/>
                  <a:pt x="1458" y="471"/>
                  <a:pt x="1495" y="424"/>
                </a:cubicBezTo>
                <a:cubicBezTo>
                  <a:pt x="1561" y="367"/>
                  <a:pt x="1561" y="367"/>
                  <a:pt x="1561" y="367"/>
                </a:cubicBezTo>
                <a:cubicBezTo>
                  <a:pt x="1580" y="348"/>
                  <a:pt x="1599" y="339"/>
                  <a:pt x="1627" y="339"/>
                </a:cubicBezTo>
                <a:cubicBezTo>
                  <a:pt x="1693" y="339"/>
                  <a:pt x="1730" y="386"/>
                  <a:pt x="1778" y="424"/>
                </a:cubicBezTo>
                <a:cubicBezTo>
                  <a:pt x="1834" y="377"/>
                  <a:pt x="1862" y="377"/>
                  <a:pt x="1928" y="377"/>
                </a:cubicBezTo>
                <a:cubicBezTo>
                  <a:pt x="1984" y="348"/>
                  <a:pt x="1984" y="348"/>
                  <a:pt x="2013" y="311"/>
                </a:cubicBezTo>
                <a:cubicBezTo>
                  <a:pt x="2041" y="264"/>
                  <a:pt x="2060" y="236"/>
                  <a:pt x="2116" y="236"/>
                </a:cubicBezTo>
                <a:cubicBezTo>
                  <a:pt x="2219" y="236"/>
                  <a:pt x="2248" y="330"/>
                  <a:pt x="2285" y="405"/>
                </a:cubicBezTo>
                <a:cubicBezTo>
                  <a:pt x="2671" y="1176"/>
                  <a:pt x="2671" y="1176"/>
                  <a:pt x="2671" y="1176"/>
                </a:cubicBezTo>
                <a:cubicBezTo>
                  <a:pt x="3000" y="1816"/>
                  <a:pt x="3000" y="1816"/>
                  <a:pt x="3000" y="1816"/>
                </a:cubicBezTo>
                <a:cubicBezTo>
                  <a:pt x="3235" y="1524"/>
                  <a:pt x="3235" y="1524"/>
                  <a:pt x="3235" y="1524"/>
                </a:cubicBezTo>
                <a:cubicBezTo>
                  <a:pt x="3696" y="998"/>
                  <a:pt x="3696" y="998"/>
                  <a:pt x="3696" y="998"/>
                </a:cubicBezTo>
                <a:cubicBezTo>
                  <a:pt x="3800" y="875"/>
                  <a:pt x="4515" y="10"/>
                  <a:pt x="4600" y="10"/>
                </a:cubicBezTo>
                <a:cubicBezTo>
                  <a:pt x="4656" y="10"/>
                  <a:pt x="4873" y="142"/>
                  <a:pt x="4929" y="189"/>
                </a:cubicBezTo>
                <a:cubicBezTo>
                  <a:pt x="5033" y="95"/>
                  <a:pt x="5033" y="95"/>
                  <a:pt x="5033" y="95"/>
                </a:cubicBezTo>
                <a:cubicBezTo>
                  <a:pt x="5051" y="66"/>
                  <a:pt x="5108" y="0"/>
                  <a:pt x="5136" y="0"/>
                </a:cubicBezTo>
                <a:cubicBezTo>
                  <a:pt x="5164" y="0"/>
                  <a:pt x="5183" y="57"/>
                  <a:pt x="5192" y="76"/>
                </a:cubicBezTo>
                <a:cubicBezTo>
                  <a:pt x="5230" y="170"/>
                  <a:pt x="5381" y="273"/>
                  <a:pt x="5381" y="339"/>
                </a:cubicBezTo>
                <a:cubicBezTo>
                  <a:pt x="5381" y="396"/>
                  <a:pt x="5315" y="452"/>
                  <a:pt x="5277" y="489"/>
                </a:cubicBezTo>
                <a:cubicBezTo>
                  <a:pt x="5173" y="584"/>
                  <a:pt x="5042" y="762"/>
                  <a:pt x="4957" y="875"/>
                </a:cubicBezTo>
                <a:cubicBezTo>
                  <a:pt x="3621" y="2606"/>
                  <a:pt x="3621" y="2606"/>
                  <a:pt x="3621" y="2606"/>
                </a:cubicBezTo>
                <a:cubicBezTo>
                  <a:pt x="3518" y="2757"/>
                  <a:pt x="3518" y="2757"/>
                  <a:pt x="3518" y="2757"/>
                </a:cubicBezTo>
                <a:cubicBezTo>
                  <a:pt x="3810" y="3340"/>
                  <a:pt x="3810" y="3340"/>
                  <a:pt x="3810" y="334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叉"/>
          <p:cNvSpPr/>
          <p:nvPr/>
        </p:nvSpPr>
        <p:spPr>
          <a:xfrm>
            <a:off x="5286240" y="2448000"/>
            <a:ext cx="312840" cy="531720"/>
          </a:xfrm>
          <a:custGeom>
            <a:avLst/>
            <a:gdLst/>
            <a:ahLst/>
            <a:rect l="l" t="t" r="r" b="b"/>
            <a:pathLst>
              <a:path w="5381" h="6858">
                <a:moveTo>
                  <a:pt x="3810" y="3340"/>
                </a:moveTo>
                <a:cubicBezTo>
                  <a:pt x="4543" y="4911"/>
                  <a:pt x="4543" y="4911"/>
                  <a:pt x="4543" y="4911"/>
                </a:cubicBezTo>
                <a:cubicBezTo>
                  <a:pt x="4515" y="4977"/>
                  <a:pt x="4478" y="5014"/>
                  <a:pt x="4412" y="5043"/>
                </a:cubicBezTo>
                <a:cubicBezTo>
                  <a:pt x="4412" y="5118"/>
                  <a:pt x="4412" y="5118"/>
                  <a:pt x="4412" y="5118"/>
                </a:cubicBezTo>
                <a:cubicBezTo>
                  <a:pt x="4374" y="5156"/>
                  <a:pt x="4223" y="5212"/>
                  <a:pt x="4223" y="5269"/>
                </a:cubicBezTo>
                <a:cubicBezTo>
                  <a:pt x="4223" y="5306"/>
                  <a:pt x="4252" y="5363"/>
                  <a:pt x="4270" y="5400"/>
                </a:cubicBezTo>
                <a:cubicBezTo>
                  <a:pt x="4252" y="5513"/>
                  <a:pt x="4073" y="5635"/>
                  <a:pt x="3960" y="5635"/>
                </a:cubicBezTo>
                <a:cubicBezTo>
                  <a:pt x="3838" y="5635"/>
                  <a:pt x="3649" y="5297"/>
                  <a:pt x="3602" y="5222"/>
                </a:cubicBezTo>
                <a:cubicBezTo>
                  <a:pt x="2718" y="3857"/>
                  <a:pt x="2718" y="3857"/>
                  <a:pt x="2718" y="3857"/>
                </a:cubicBezTo>
                <a:cubicBezTo>
                  <a:pt x="855" y="6746"/>
                  <a:pt x="855" y="6746"/>
                  <a:pt x="855" y="6746"/>
                </a:cubicBezTo>
                <a:cubicBezTo>
                  <a:pt x="743" y="6830"/>
                  <a:pt x="498" y="6858"/>
                  <a:pt x="366" y="6858"/>
                </a:cubicBezTo>
                <a:cubicBezTo>
                  <a:pt x="244" y="6858"/>
                  <a:pt x="225" y="6764"/>
                  <a:pt x="169" y="6670"/>
                </a:cubicBezTo>
                <a:cubicBezTo>
                  <a:pt x="112" y="6586"/>
                  <a:pt x="28" y="6482"/>
                  <a:pt x="28" y="6379"/>
                </a:cubicBezTo>
                <a:cubicBezTo>
                  <a:pt x="28" y="6322"/>
                  <a:pt x="37" y="6285"/>
                  <a:pt x="56" y="6228"/>
                </a:cubicBezTo>
                <a:cubicBezTo>
                  <a:pt x="75" y="6153"/>
                  <a:pt x="112" y="6097"/>
                  <a:pt x="47" y="6040"/>
                </a:cubicBezTo>
                <a:cubicBezTo>
                  <a:pt x="28" y="6021"/>
                  <a:pt x="0" y="6002"/>
                  <a:pt x="0" y="5974"/>
                </a:cubicBezTo>
                <a:cubicBezTo>
                  <a:pt x="0" y="5852"/>
                  <a:pt x="159" y="5626"/>
                  <a:pt x="225" y="5513"/>
                </a:cubicBezTo>
                <a:cubicBezTo>
                  <a:pt x="451" y="5128"/>
                  <a:pt x="451" y="5128"/>
                  <a:pt x="451" y="5128"/>
                </a:cubicBezTo>
                <a:cubicBezTo>
                  <a:pt x="837" y="4450"/>
                  <a:pt x="1552" y="3603"/>
                  <a:pt x="2060" y="2992"/>
                </a:cubicBezTo>
                <a:cubicBezTo>
                  <a:pt x="2172" y="2860"/>
                  <a:pt x="2172" y="2860"/>
                  <a:pt x="2172" y="2860"/>
                </a:cubicBezTo>
                <a:cubicBezTo>
                  <a:pt x="1476" y="941"/>
                  <a:pt x="1476" y="941"/>
                  <a:pt x="1476" y="941"/>
                </a:cubicBezTo>
                <a:cubicBezTo>
                  <a:pt x="1448" y="866"/>
                  <a:pt x="1373" y="706"/>
                  <a:pt x="1373" y="621"/>
                </a:cubicBezTo>
                <a:cubicBezTo>
                  <a:pt x="1373" y="556"/>
                  <a:pt x="1458" y="471"/>
                  <a:pt x="1495" y="424"/>
                </a:cubicBezTo>
                <a:cubicBezTo>
                  <a:pt x="1561" y="367"/>
                  <a:pt x="1561" y="367"/>
                  <a:pt x="1561" y="367"/>
                </a:cubicBezTo>
                <a:cubicBezTo>
                  <a:pt x="1580" y="348"/>
                  <a:pt x="1599" y="339"/>
                  <a:pt x="1627" y="339"/>
                </a:cubicBezTo>
                <a:cubicBezTo>
                  <a:pt x="1693" y="339"/>
                  <a:pt x="1730" y="386"/>
                  <a:pt x="1778" y="424"/>
                </a:cubicBezTo>
                <a:cubicBezTo>
                  <a:pt x="1834" y="377"/>
                  <a:pt x="1862" y="377"/>
                  <a:pt x="1928" y="377"/>
                </a:cubicBezTo>
                <a:cubicBezTo>
                  <a:pt x="1984" y="348"/>
                  <a:pt x="1984" y="348"/>
                  <a:pt x="2013" y="311"/>
                </a:cubicBezTo>
                <a:cubicBezTo>
                  <a:pt x="2041" y="264"/>
                  <a:pt x="2060" y="236"/>
                  <a:pt x="2116" y="236"/>
                </a:cubicBezTo>
                <a:cubicBezTo>
                  <a:pt x="2219" y="236"/>
                  <a:pt x="2248" y="330"/>
                  <a:pt x="2285" y="405"/>
                </a:cubicBezTo>
                <a:cubicBezTo>
                  <a:pt x="2671" y="1176"/>
                  <a:pt x="2671" y="1176"/>
                  <a:pt x="2671" y="1176"/>
                </a:cubicBezTo>
                <a:cubicBezTo>
                  <a:pt x="3000" y="1816"/>
                  <a:pt x="3000" y="1816"/>
                  <a:pt x="3000" y="1816"/>
                </a:cubicBezTo>
                <a:cubicBezTo>
                  <a:pt x="3235" y="1524"/>
                  <a:pt x="3235" y="1524"/>
                  <a:pt x="3235" y="1524"/>
                </a:cubicBezTo>
                <a:cubicBezTo>
                  <a:pt x="3696" y="998"/>
                  <a:pt x="3696" y="998"/>
                  <a:pt x="3696" y="998"/>
                </a:cubicBezTo>
                <a:cubicBezTo>
                  <a:pt x="3800" y="875"/>
                  <a:pt x="4515" y="10"/>
                  <a:pt x="4600" y="10"/>
                </a:cubicBezTo>
                <a:cubicBezTo>
                  <a:pt x="4656" y="10"/>
                  <a:pt x="4873" y="142"/>
                  <a:pt x="4929" y="189"/>
                </a:cubicBezTo>
                <a:cubicBezTo>
                  <a:pt x="5033" y="95"/>
                  <a:pt x="5033" y="95"/>
                  <a:pt x="5033" y="95"/>
                </a:cubicBezTo>
                <a:cubicBezTo>
                  <a:pt x="5051" y="66"/>
                  <a:pt x="5108" y="0"/>
                  <a:pt x="5136" y="0"/>
                </a:cubicBezTo>
                <a:cubicBezTo>
                  <a:pt x="5164" y="0"/>
                  <a:pt x="5183" y="57"/>
                  <a:pt x="5192" y="76"/>
                </a:cubicBezTo>
                <a:cubicBezTo>
                  <a:pt x="5230" y="170"/>
                  <a:pt x="5381" y="273"/>
                  <a:pt x="5381" y="339"/>
                </a:cubicBezTo>
                <a:cubicBezTo>
                  <a:pt x="5381" y="396"/>
                  <a:pt x="5315" y="452"/>
                  <a:pt x="5277" y="489"/>
                </a:cubicBezTo>
                <a:cubicBezTo>
                  <a:pt x="5173" y="584"/>
                  <a:pt x="5042" y="762"/>
                  <a:pt x="4957" y="875"/>
                </a:cubicBezTo>
                <a:cubicBezTo>
                  <a:pt x="3621" y="2606"/>
                  <a:pt x="3621" y="2606"/>
                  <a:pt x="3621" y="2606"/>
                </a:cubicBezTo>
                <a:cubicBezTo>
                  <a:pt x="3518" y="2757"/>
                  <a:pt x="3518" y="2757"/>
                  <a:pt x="3518" y="2757"/>
                </a:cubicBezTo>
                <a:cubicBezTo>
                  <a:pt x="3810" y="3340"/>
                  <a:pt x="3810" y="3340"/>
                  <a:pt x="3810" y="334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4235400" y="3413160"/>
            <a:ext cx="3654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/2=1.25g/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叉"/>
          <p:cNvSpPr/>
          <p:nvPr/>
        </p:nvSpPr>
        <p:spPr>
          <a:xfrm>
            <a:off x="1998720" y="3390840"/>
            <a:ext cx="312840" cy="533520"/>
          </a:xfrm>
          <a:custGeom>
            <a:avLst/>
            <a:gdLst/>
            <a:ahLst/>
            <a:rect l="l" t="t" r="r" b="b"/>
            <a:pathLst>
              <a:path w="5381" h="6858">
                <a:moveTo>
                  <a:pt x="3810" y="3340"/>
                </a:moveTo>
                <a:cubicBezTo>
                  <a:pt x="4543" y="4911"/>
                  <a:pt x="4543" y="4911"/>
                  <a:pt x="4543" y="4911"/>
                </a:cubicBezTo>
                <a:cubicBezTo>
                  <a:pt x="4515" y="4977"/>
                  <a:pt x="4478" y="5014"/>
                  <a:pt x="4412" y="5043"/>
                </a:cubicBezTo>
                <a:cubicBezTo>
                  <a:pt x="4412" y="5118"/>
                  <a:pt x="4412" y="5118"/>
                  <a:pt x="4412" y="5118"/>
                </a:cubicBezTo>
                <a:cubicBezTo>
                  <a:pt x="4374" y="5156"/>
                  <a:pt x="4223" y="5212"/>
                  <a:pt x="4223" y="5269"/>
                </a:cubicBezTo>
                <a:cubicBezTo>
                  <a:pt x="4223" y="5306"/>
                  <a:pt x="4252" y="5363"/>
                  <a:pt x="4270" y="5400"/>
                </a:cubicBezTo>
                <a:cubicBezTo>
                  <a:pt x="4252" y="5513"/>
                  <a:pt x="4073" y="5635"/>
                  <a:pt x="3960" y="5635"/>
                </a:cubicBezTo>
                <a:cubicBezTo>
                  <a:pt x="3838" y="5635"/>
                  <a:pt x="3649" y="5297"/>
                  <a:pt x="3602" y="5222"/>
                </a:cubicBezTo>
                <a:cubicBezTo>
                  <a:pt x="2718" y="3857"/>
                  <a:pt x="2718" y="3857"/>
                  <a:pt x="2718" y="3857"/>
                </a:cubicBezTo>
                <a:cubicBezTo>
                  <a:pt x="855" y="6746"/>
                  <a:pt x="855" y="6746"/>
                  <a:pt x="855" y="6746"/>
                </a:cubicBezTo>
                <a:cubicBezTo>
                  <a:pt x="743" y="6830"/>
                  <a:pt x="498" y="6858"/>
                  <a:pt x="366" y="6858"/>
                </a:cubicBezTo>
                <a:cubicBezTo>
                  <a:pt x="244" y="6858"/>
                  <a:pt x="225" y="6764"/>
                  <a:pt x="169" y="6670"/>
                </a:cubicBezTo>
                <a:cubicBezTo>
                  <a:pt x="112" y="6586"/>
                  <a:pt x="28" y="6482"/>
                  <a:pt x="28" y="6379"/>
                </a:cubicBezTo>
                <a:cubicBezTo>
                  <a:pt x="28" y="6322"/>
                  <a:pt x="37" y="6285"/>
                  <a:pt x="56" y="6228"/>
                </a:cubicBezTo>
                <a:cubicBezTo>
                  <a:pt x="75" y="6153"/>
                  <a:pt x="112" y="6097"/>
                  <a:pt x="47" y="6040"/>
                </a:cubicBezTo>
                <a:cubicBezTo>
                  <a:pt x="28" y="6021"/>
                  <a:pt x="0" y="6002"/>
                  <a:pt x="0" y="5974"/>
                </a:cubicBezTo>
                <a:cubicBezTo>
                  <a:pt x="0" y="5852"/>
                  <a:pt x="159" y="5626"/>
                  <a:pt x="225" y="5513"/>
                </a:cubicBezTo>
                <a:cubicBezTo>
                  <a:pt x="451" y="5128"/>
                  <a:pt x="451" y="5128"/>
                  <a:pt x="451" y="5128"/>
                </a:cubicBezTo>
                <a:cubicBezTo>
                  <a:pt x="837" y="4450"/>
                  <a:pt x="1552" y="3603"/>
                  <a:pt x="2060" y="2992"/>
                </a:cubicBezTo>
                <a:cubicBezTo>
                  <a:pt x="2172" y="2860"/>
                  <a:pt x="2172" y="2860"/>
                  <a:pt x="2172" y="2860"/>
                </a:cubicBezTo>
                <a:cubicBezTo>
                  <a:pt x="1476" y="941"/>
                  <a:pt x="1476" y="941"/>
                  <a:pt x="1476" y="941"/>
                </a:cubicBezTo>
                <a:cubicBezTo>
                  <a:pt x="1448" y="866"/>
                  <a:pt x="1373" y="706"/>
                  <a:pt x="1373" y="621"/>
                </a:cubicBezTo>
                <a:cubicBezTo>
                  <a:pt x="1373" y="556"/>
                  <a:pt x="1458" y="471"/>
                  <a:pt x="1495" y="424"/>
                </a:cubicBezTo>
                <a:cubicBezTo>
                  <a:pt x="1561" y="367"/>
                  <a:pt x="1561" y="367"/>
                  <a:pt x="1561" y="367"/>
                </a:cubicBezTo>
                <a:cubicBezTo>
                  <a:pt x="1580" y="348"/>
                  <a:pt x="1599" y="339"/>
                  <a:pt x="1627" y="339"/>
                </a:cubicBezTo>
                <a:cubicBezTo>
                  <a:pt x="1693" y="339"/>
                  <a:pt x="1730" y="386"/>
                  <a:pt x="1778" y="424"/>
                </a:cubicBezTo>
                <a:cubicBezTo>
                  <a:pt x="1834" y="377"/>
                  <a:pt x="1862" y="377"/>
                  <a:pt x="1928" y="377"/>
                </a:cubicBezTo>
                <a:cubicBezTo>
                  <a:pt x="1984" y="348"/>
                  <a:pt x="1984" y="348"/>
                  <a:pt x="2013" y="311"/>
                </a:cubicBezTo>
                <a:cubicBezTo>
                  <a:pt x="2041" y="264"/>
                  <a:pt x="2060" y="236"/>
                  <a:pt x="2116" y="236"/>
                </a:cubicBezTo>
                <a:cubicBezTo>
                  <a:pt x="2219" y="236"/>
                  <a:pt x="2248" y="330"/>
                  <a:pt x="2285" y="405"/>
                </a:cubicBezTo>
                <a:cubicBezTo>
                  <a:pt x="2671" y="1176"/>
                  <a:pt x="2671" y="1176"/>
                  <a:pt x="2671" y="1176"/>
                </a:cubicBezTo>
                <a:cubicBezTo>
                  <a:pt x="3000" y="1816"/>
                  <a:pt x="3000" y="1816"/>
                  <a:pt x="3000" y="1816"/>
                </a:cubicBezTo>
                <a:cubicBezTo>
                  <a:pt x="3235" y="1524"/>
                  <a:pt x="3235" y="1524"/>
                  <a:pt x="3235" y="1524"/>
                </a:cubicBezTo>
                <a:cubicBezTo>
                  <a:pt x="3696" y="998"/>
                  <a:pt x="3696" y="998"/>
                  <a:pt x="3696" y="998"/>
                </a:cubicBezTo>
                <a:cubicBezTo>
                  <a:pt x="3800" y="875"/>
                  <a:pt x="4515" y="10"/>
                  <a:pt x="4600" y="10"/>
                </a:cubicBezTo>
                <a:cubicBezTo>
                  <a:pt x="4656" y="10"/>
                  <a:pt x="4873" y="142"/>
                  <a:pt x="4929" y="189"/>
                </a:cubicBezTo>
                <a:cubicBezTo>
                  <a:pt x="5033" y="95"/>
                  <a:pt x="5033" y="95"/>
                  <a:pt x="5033" y="95"/>
                </a:cubicBezTo>
                <a:cubicBezTo>
                  <a:pt x="5051" y="66"/>
                  <a:pt x="5108" y="0"/>
                  <a:pt x="5136" y="0"/>
                </a:cubicBezTo>
                <a:cubicBezTo>
                  <a:pt x="5164" y="0"/>
                  <a:pt x="5183" y="57"/>
                  <a:pt x="5192" y="76"/>
                </a:cubicBezTo>
                <a:cubicBezTo>
                  <a:pt x="5230" y="170"/>
                  <a:pt x="5381" y="273"/>
                  <a:pt x="5381" y="339"/>
                </a:cubicBezTo>
                <a:cubicBezTo>
                  <a:pt x="5381" y="396"/>
                  <a:pt x="5315" y="452"/>
                  <a:pt x="5277" y="489"/>
                </a:cubicBezTo>
                <a:cubicBezTo>
                  <a:pt x="5173" y="584"/>
                  <a:pt x="5042" y="762"/>
                  <a:pt x="4957" y="875"/>
                </a:cubicBezTo>
                <a:cubicBezTo>
                  <a:pt x="3621" y="2606"/>
                  <a:pt x="3621" y="2606"/>
                  <a:pt x="3621" y="2606"/>
                </a:cubicBezTo>
                <a:cubicBezTo>
                  <a:pt x="3518" y="2757"/>
                  <a:pt x="3518" y="2757"/>
                  <a:pt x="3518" y="2757"/>
                </a:cubicBezTo>
                <a:cubicBezTo>
                  <a:pt x="3810" y="3340"/>
                  <a:pt x="3810" y="3340"/>
                  <a:pt x="3810" y="334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4235400" y="4387680"/>
            <a:ext cx="45514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2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(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i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)=0.8g/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&lt;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勾"/>
          <p:cNvSpPr/>
          <p:nvPr/>
        </p:nvSpPr>
        <p:spPr>
          <a:xfrm>
            <a:off x="1119240" y="4003560"/>
            <a:ext cx="449280" cy="66204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5248440" y="14875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" name="组合 1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120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21" name="TextBox 3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随堂演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内容占位符 1"/>
          <p:cNvSpPr/>
          <p:nvPr/>
        </p:nvSpPr>
        <p:spPr>
          <a:xfrm>
            <a:off x="560520" y="657360"/>
            <a:ext cx="78642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一木块竖直地浮在水面上，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体积露出水面，若把露出的体积切掉，则（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木块将全部浸没在水中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木块剩余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浸没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木块剩余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/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浸没水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木块下沉入水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9"/>
          <p:cNvSpPr/>
          <p:nvPr/>
        </p:nvSpPr>
        <p:spPr>
          <a:xfrm>
            <a:off x="6878520" y="1120680"/>
            <a:ext cx="57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344600" y="3422520"/>
            <a:ext cx="6305400" cy="15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木块漂浮   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/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和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，    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/5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内容占位符 1"/>
          <p:cNvSpPr/>
          <p:nvPr/>
        </p:nvSpPr>
        <p:spPr>
          <a:xfrm>
            <a:off x="368280" y="484200"/>
            <a:ext cx="8012160" cy="30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个实心球质量相等，放入水中后它们露出水面的体积分别是各自体积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/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/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则（        ）（多选）。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球的体积之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: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球的密度之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球所受浮力之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: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甲、乙两球所受浮力之比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: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1214280" y="1320840"/>
            <a:ext cx="85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5987880" y="1347840"/>
            <a:ext cx="31449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甲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214280" y="3586320"/>
            <a:ext cx="2916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  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  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对象 4" descr=""/>
          <p:cNvPicPr/>
          <p:nvPr/>
        </p:nvPicPr>
        <p:blipFill>
          <a:blip r:embed="rId1"/>
          <a:stretch/>
        </p:blipFill>
        <p:spPr>
          <a:xfrm>
            <a:off x="1797120" y="3586320"/>
            <a:ext cx="233280" cy="623880"/>
          </a:xfrm>
          <a:prstGeom prst="rect">
            <a:avLst/>
          </a:prstGeom>
          <a:ln w="0">
            <a:noFill/>
          </a:ln>
        </p:spPr>
      </p:pic>
      <p:pic>
        <p:nvPicPr>
          <p:cNvPr id="130" name="对象 5" descr=""/>
          <p:cNvPicPr/>
          <p:nvPr/>
        </p:nvPicPr>
        <p:blipFill>
          <a:blip r:embed="rId2"/>
          <a:stretch/>
        </p:blipFill>
        <p:spPr>
          <a:xfrm>
            <a:off x="3035160" y="3576600"/>
            <a:ext cx="233640" cy="625680"/>
          </a:xfrm>
          <a:prstGeom prst="rect">
            <a:avLst/>
          </a:prstGeom>
          <a:ln w="0">
            <a:noFill/>
          </a:ln>
        </p:spPr>
      </p:pic>
      <p:sp>
        <p:nvSpPr>
          <p:cNvPr id="131" name="勾"/>
          <p:cNvSpPr/>
          <p:nvPr/>
        </p:nvSpPr>
        <p:spPr>
          <a:xfrm>
            <a:off x="1155600" y="2519280"/>
            <a:ext cx="449280" cy="66060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214280" y="4327560"/>
            <a:ext cx="29163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/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叉"/>
          <p:cNvSpPr/>
          <p:nvPr/>
        </p:nvSpPr>
        <p:spPr>
          <a:xfrm>
            <a:off x="1155600" y="1795320"/>
            <a:ext cx="311400" cy="532080"/>
          </a:xfrm>
          <a:custGeom>
            <a:avLst/>
            <a:gdLst/>
            <a:ahLst/>
            <a:rect l="l" t="t" r="r" b="b"/>
            <a:pathLst>
              <a:path w="5381" h="6858">
                <a:moveTo>
                  <a:pt x="3810" y="3340"/>
                </a:moveTo>
                <a:cubicBezTo>
                  <a:pt x="4543" y="4911"/>
                  <a:pt x="4543" y="4911"/>
                  <a:pt x="4543" y="4911"/>
                </a:cubicBezTo>
                <a:cubicBezTo>
                  <a:pt x="4515" y="4977"/>
                  <a:pt x="4478" y="5014"/>
                  <a:pt x="4412" y="5043"/>
                </a:cubicBezTo>
                <a:cubicBezTo>
                  <a:pt x="4412" y="5118"/>
                  <a:pt x="4412" y="5118"/>
                  <a:pt x="4412" y="5118"/>
                </a:cubicBezTo>
                <a:cubicBezTo>
                  <a:pt x="4374" y="5156"/>
                  <a:pt x="4223" y="5212"/>
                  <a:pt x="4223" y="5269"/>
                </a:cubicBezTo>
                <a:cubicBezTo>
                  <a:pt x="4223" y="5306"/>
                  <a:pt x="4252" y="5363"/>
                  <a:pt x="4270" y="5400"/>
                </a:cubicBezTo>
                <a:cubicBezTo>
                  <a:pt x="4252" y="5513"/>
                  <a:pt x="4073" y="5635"/>
                  <a:pt x="3960" y="5635"/>
                </a:cubicBezTo>
                <a:cubicBezTo>
                  <a:pt x="3838" y="5635"/>
                  <a:pt x="3649" y="5297"/>
                  <a:pt x="3602" y="5222"/>
                </a:cubicBezTo>
                <a:cubicBezTo>
                  <a:pt x="2718" y="3857"/>
                  <a:pt x="2718" y="3857"/>
                  <a:pt x="2718" y="3857"/>
                </a:cubicBezTo>
                <a:cubicBezTo>
                  <a:pt x="855" y="6746"/>
                  <a:pt x="855" y="6746"/>
                  <a:pt x="855" y="6746"/>
                </a:cubicBezTo>
                <a:cubicBezTo>
                  <a:pt x="743" y="6830"/>
                  <a:pt x="498" y="6858"/>
                  <a:pt x="366" y="6858"/>
                </a:cubicBezTo>
                <a:cubicBezTo>
                  <a:pt x="244" y="6858"/>
                  <a:pt x="225" y="6764"/>
                  <a:pt x="169" y="6670"/>
                </a:cubicBezTo>
                <a:cubicBezTo>
                  <a:pt x="112" y="6586"/>
                  <a:pt x="28" y="6482"/>
                  <a:pt x="28" y="6379"/>
                </a:cubicBezTo>
                <a:cubicBezTo>
                  <a:pt x="28" y="6322"/>
                  <a:pt x="37" y="6285"/>
                  <a:pt x="56" y="6228"/>
                </a:cubicBezTo>
                <a:cubicBezTo>
                  <a:pt x="75" y="6153"/>
                  <a:pt x="112" y="6097"/>
                  <a:pt x="47" y="6040"/>
                </a:cubicBezTo>
                <a:cubicBezTo>
                  <a:pt x="28" y="6021"/>
                  <a:pt x="0" y="6002"/>
                  <a:pt x="0" y="5974"/>
                </a:cubicBezTo>
                <a:cubicBezTo>
                  <a:pt x="0" y="5852"/>
                  <a:pt x="159" y="5626"/>
                  <a:pt x="225" y="5513"/>
                </a:cubicBezTo>
                <a:cubicBezTo>
                  <a:pt x="451" y="5128"/>
                  <a:pt x="451" y="5128"/>
                  <a:pt x="451" y="5128"/>
                </a:cubicBezTo>
                <a:cubicBezTo>
                  <a:pt x="837" y="4450"/>
                  <a:pt x="1552" y="3603"/>
                  <a:pt x="2060" y="2992"/>
                </a:cubicBezTo>
                <a:cubicBezTo>
                  <a:pt x="2172" y="2860"/>
                  <a:pt x="2172" y="2860"/>
                  <a:pt x="2172" y="2860"/>
                </a:cubicBezTo>
                <a:cubicBezTo>
                  <a:pt x="1476" y="941"/>
                  <a:pt x="1476" y="941"/>
                  <a:pt x="1476" y="941"/>
                </a:cubicBezTo>
                <a:cubicBezTo>
                  <a:pt x="1448" y="866"/>
                  <a:pt x="1373" y="706"/>
                  <a:pt x="1373" y="621"/>
                </a:cubicBezTo>
                <a:cubicBezTo>
                  <a:pt x="1373" y="556"/>
                  <a:pt x="1458" y="471"/>
                  <a:pt x="1495" y="424"/>
                </a:cubicBezTo>
                <a:cubicBezTo>
                  <a:pt x="1561" y="367"/>
                  <a:pt x="1561" y="367"/>
                  <a:pt x="1561" y="367"/>
                </a:cubicBezTo>
                <a:cubicBezTo>
                  <a:pt x="1580" y="348"/>
                  <a:pt x="1599" y="339"/>
                  <a:pt x="1627" y="339"/>
                </a:cubicBezTo>
                <a:cubicBezTo>
                  <a:pt x="1693" y="339"/>
                  <a:pt x="1730" y="386"/>
                  <a:pt x="1778" y="424"/>
                </a:cubicBezTo>
                <a:cubicBezTo>
                  <a:pt x="1834" y="377"/>
                  <a:pt x="1862" y="377"/>
                  <a:pt x="1928" y="377"/>
                </a:cubicBezTo>
                <a:cubicBezTo>
                  <a:pt x="1984" y="348"/>
                  <a:pt x="1984" y="348"/>
                  <a:pt x="2013" y="311"/>
                </a:cubicBezTo>
                <a:cubicBezTo>
                  <a:pt x="2041" y="264"/>
                  <a:pt x="2060" y="236"/>
                  <a:pt x="2116" y="236"/>
                </a:cubicBezTo>
                <a:cubicBezTo>
                  <a:pt x="2219" y="236"/>
                  <a:pt x="2248" y="330"/>
                  <a:pt x="2285" y="405"/>
                </a:cubicBezTo>
                <a:cubicBezTo>
                  <a:pt x="2671" y="1176"/>
                  <a:pt x="2671" y="1176"/>
                  <a:pt x="2671" y="1176"/>
                </a:cubicBezTo>
                <a:cubicBezTo>
                  <a:pt x="3000" y="1816"/>
                  <a:pt x="3000" y="1816"/>
                  <a:pt x="3000" y="1816"/>
                </a:cubicBezTo>
                <a:cubicBezTo>
                  <a:pt x="3235" y="1524"/>
                  <a:pt x="3235" y="1524"/>
                  <a:pt x="3235" y="1524"/>
                </a:cubicBezTo>
                <a:cubicBezTo>
                  <a:pt x="3696" y="998"/>
                  <a:pt x="3696" y="998"/>
                  <a:pt x="3696" y="998"/>
                </a:cubicBezTo>
                <a:cubicBezTo>
                  <a:pt x="3800" y="875"/>
                  <a:pt x="4515" y="10"/>
                  <a:pt x="4600" y="10"/>
                </a:cubicBezTo>
                <a:cubicBezTo>
                  <a:pt x="4656" y="10"/>
                  <a:pt x="4873" y="142"/>
                  <a:pt x="4929" y="189"/>
                </a:cubicBezTo>
                <a:cubicBezTo>
                  <a:pt x="5033" y="95"/>
                  <a:pt x="5033" y="95"/>
                  <a:pt x="5033" y="95"/>
                </a:cubicBezTo>
                <a:cubicBezTo>
                  <a:pt x="5051" y="66"/>
                  <a:pt x="5108" y="0"/>
                  <a:pt x="5136" y="0"/>
                </a:cubicBezTo>
                <a:cubicBezTo>
                  <a:pt x="5164" y="0"/>
                  <a:pt x="5183" y="57"/>
                  <a:pt x="5192" y="76"/>
                </a:cubicBezTo>
                <a:cubicBezTo>
                  <a:pt x="5230" y="170"/>
                  <a:pt x="5381" y="273"/>
                  <a:pt x="5381" y="339"/>
                </a:cubicBezTo>
                <a:cubicBezTo>
                  <a:pt x="5381" y="396"/>
                  <a:pt x="5315" y="452"/>
                  <a:pt x="5277" y="489"/>
                </a:cubicBezTo>
                <a:cubicBezTo>
                  <a:pt x="5173" y="584"/>
                  <a:pt x="5042" y="762"/>
                  <a:pt x="4957" y="875"/>
                </a:cubicBezTo>
                <a:cubicBezTo>
                  <a:pt x="3621" y="2606"/>
                  <a:pt x="3621" y="2606"/>
                  <a:pt x="3621" y="2606"/>
                </a:cubicBezTo>
                <a:cubicBezTo>
                  <a:pt x="3518" y="2757"/>
                  <a:pt x="3518" y="2757"/>
                  <a:pt x="3518" y="2757"/>
                </a:cubicBezTo>
                <a:cubicBezTo>
                  <a:pt x="3810" y="3340"/>
                  <a:pt x="3810" y="3340"/>
                  <a:pt x="3810" y="334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3397320" y="4311720"/>
            <a:ext cx="29160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4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叉"/>
          <p:cNvSpPr/>
          <p:nvPr/>
        </p:nvSpPr>
        <p:spPr>
          <a:xfrm>
            <a:off x="1155600" y="3116160"/>
            <a:ext cx="311400" cy="532080"/>
          </a:xfrm>
          <a:custGeom>
            <a:avLst/>
            <a:gdLst/>
            <a:ahLst/>
            <a:rect l="l" t="t" r="r" b="b"/>
            <a:pathLst>
              <a:path w="5381" h="6858">
                <a:moveTo>
                  <a:pt x="3810" y="3340"/>
                </a:moveTo>
                <a:cubicBezTo>
                  <a:pt x="4543" y="4911"/>
                  <a:pt x="4543" y="4911"/>
                  <a:pt x="4543" y="4911"/>
                </a:cubicBezTo>
                <a:cubicBezTo>
                  <a:pt x="4515" y="4977"/>
                  <a:pt x="4478" y="5014"/>
                  <a:pt x="4412" y="5043"/>
                </a:cubicBezTo>
                <a:cubicBezTo>
                  <a:pt x="4412" y="5118"/>
                  <a:pt x="4412" y="5118"/>
                  <a:pt x="4412" y="5118"/>
                </a:cubicBezTo>
                <a:cubicBezTo>
                  <a:pt x="4374" y="5156"/>
                  <a:pt x="4223" y="5212"/>
                  <a:pt x="4223" y="5269"/>
                </a:cubicBezTo>
                <a:cubicBezTo>
                  <a:pt x="4223" y="5306"/>
                  <a:pt x="4252" y="5363"/>
                  <a:pt x="4270" y="5400"/>
                </a:cubicBezTo>
                <a:cubicBezTo>
                  <a:pt x="4252" y="5513"/>
                  <a:pt x="4073" y="5635"/>
                  <a:pt x="3960" y="5635"/>
                </a:cubicBezTo>
                <a:cubicBezTo>
                  <a:pt x="3838" y="5635"/>
                  <a:pt x="3649" y="5297"/>
                  <a:pt x="3602" y="5222"/>
                </a:cubicBezTo>
                <a:cubicBezTo>
                  <a:pt x="2718" y="3857"/>
                  <a:pt x="2718" y="3857"/>
                  <a:pt x="2718" y="3857"/>
                </a:cubicBezTo>
                <a:cubicBezTo>
                  <a:pt x="855" y="6746"/>
                  <a:pt x="855" y="6746"/>
                  <a:pt x="855" y="6746"/>
                </a:cubicBezTo>
                <a:cubicBezTo>
                  <a:pt x="743" y="6830"/>
                  <a:pt x="498" y="6858"/>
                  <a:pt x="366" y="6858"/>
                </a:cubicBezTo>
                <a:cubicBezTo>
                  <a:pt x="244" y="6858"/>
                  <a:pt x="225" y="6764"/>
                  <a:pt x="169" y="6670"/>
                </a:cubicBezTo>
                <a:cubicBezTo>
                  <a:pt x="112" y="6586"/>
                  <a:pt x="28" y="6482"/>
                  <a:pt x="28" y="6379"/>
                </a:cubicBezTo>
                <a:cubicBezTo>
                  <a:pt x="28" y="6322"/>
                  <a:pt x="37" y="6285"/>
                  <a:pt x="56" y="6228"/>
                </a:cubicBezTo>
                <a:cubicBezTo>
                  <a:pt x="75" y="6153"/>
                  <a:pt x="112" y="6097"/>
                  <a:pt x="47" y="6040"/>
                </a:cubicBezTo>
                <a:cubicBezTo>
                  <a:pt x="28" y="6021"/>
                  <a:pt x="0" y="6002"/>
                  <a:pt x="0" y="5974"/>
                </a:cubicBezTo>
                <a:cubicBezTo>
                  <a:pt x="0" y="5852"/>
                  <a:pt x="159" y="5626"/>
                  <a:pt x="225" y="5513"/>
                </a:cubicBezTo>
                <a:cubicBezTo>
                  <a:pt x="451" y="5128"/>
                  <a:pt x="451" y="5128"/>
                  <a:pt x="451" y="5128"/>
                </a:cubicBezTo>
                <a:cubicBezTo>
                  <a:pt x="837" y="4450"/>
                  <a:pt x="1552" y="3603"/>
                  <a:pt x="2060" y="2992"/>
                </a:cubicBezTo>
                <a:cubicBezTo>
                  <a:pt x="2172" y="2860"/>
                  <a:pt x="2172" y="2860"/>
                  <a:pt x="2172" y="2860"/>
                </a:cubicBezTo>
                <a:cubicBezTo>
                  <a:pt x="1476" y="941"/>
                  <a:pt x="1476" y="941"/>
                  <a:pt x="1476" y="941"/>
                </a:cubicBezTo>
                <a:cubicBezTo>
                  <a:pt x="1448" y="866"/>
                  <a:pt x="1373" y="706"/>
                  <a:pt x="1373" y="621"/>
                </a:cubicBezTo>
                <a:cubicBezTo>
                  <a:pt x="1373" y="556"/>
                  <a:pt x="1458" y="471"/>
                  <a:pt x="1495" y="424"/>
                </a:cubicBezTo>
                <a:cubicBezTo>
                  <a:pt x="1561" y="367"/>
                  <a:pt x="1561" y="367"/>
                  <a:pt x="1561" y="367"/>
                </a:cubicBezTo>
                <a:cubicBezTo>
                  <a:pt x="1580" y="348"/>
                  <a:pt x="1599" y="339"/>
                  <a:pt x="1627" y="339"/>
                </a:cubicBezTo>
                <a:cubicBezTo>
                  <a:pt x="1693" y="339"/>
                  <a:pt x="1730" y="386"/>
                  <a:pt x="1778" y="424"/>
                </a:cubicBezTo>
                <a:cubicBezTo>
                  <a:pt x="1834" y="377"/>
                  <a:pt x="1862" y="377"/>
                  <a:pt x="1928" y="377"/>
                </a:cubicBezTo>
                <a:cubicBezTo>
                  <a:pt x="1984" y="348"/>
                  <a:pt x="1984" y="348"/>
                  <a:pt x="2013" y="311"/>
                </a:cubicBezTo>
                <a:cubicBezTo>
                  <a:pt x="2041" y="264"/>
                  <a:pt x="2060" y="236"/>
                  <a:pt x="2116" y="236"/>
                </a:cubicBezTo>
                <a:cubicBezTo>
                  <a:pt x="2219" y="236"/>
                  <a:pt x="2248" y="330"/>
                  <a:pt x="2285" y="405"/>
                </a:cubicBezTo>
                <a:cubicBezTo>
                  <a:pt x="2671" y="1176"/>
                  <a:pt x="2671" y="1176"/>
                  <a:pt x="2671" y="1176"/>
                </a:cubicBezTo>
                <a:cubicBezTo>
                  <a:pt x="3000" y="1816"/>
                  <a:pt x="3000" y="1816"/>
                  <a:pt x="3000" y="1816"/>
                </a:cubicBezTo>
                <a:cubicBezTo>
                  <a:pt x="3235" y="1524"/>
                  <a:pt x="3235" y="1524"/>
                  <a:pt x="3235" y="1524"/>
                </a:cubicBezTo>
                <a:cubicBezTo>
                  <a:pt x="3696" y="998"/>
                  <a:pt x="3696" y="998"/>
                  <a:pt x="3696" y="998"/>
                </a:cubicBezTo>
                <a:cubicBezTo>
                  <a:pt x="3800" y="875"/>
                  <a:pt x="4515" y="10"/>
                  <a:pt x="4600" y="10"/>
                </a:cubicBezTo>
                <a:cubicBezTo>
                  <a:pt x="4656" y="10"/>
                  <a:pt x="4873" y="142"/>
                  <a:pt x="4929" y="189"/>
                </a:cubicBezTo>
                <a:cubicBezTo>
                  <a:pt x="5033" y="95"/>
                  <a:pt x="5033" y="95"/>
                  <a:pt x="5033" y="95"/>
                </a:cubicBezTo>
                <a:cubicBezTo>
                  <a:pt x="5051" y="66"/>
                  <a:pt x="5108" y="0"/>
                  <a:pt x="5136" y="0"/>
                </a:cubicBezTo>
                <a:cubicBezTo>
                  <a:pt x="5164" y="0"/>
                  <a:pt x="5183" y="57"/>
                  <a:pt x="5192" y="76"/>
                </a:cubicBezTo>
                <a:cubicBezTo>
                  <a:pt x="5230" y="170"/>
                  <a:pt x="5381" y="273"/>
                  <a:pt x="5381" y="339"/>
                </a:cubicBezTo>
                <a:cubicBezTo>
                  <a:pt x="5381" y="396"/>
                  <a:pt x="5315" y="452"/>
                  <a:pt x="5277" y="489"/>
                </a:cubicBezTo>
                <a:cubicBezTo>
                  <a:pt x="5173" y="584"/>
                  <a:pt x="5042" y="762"/>
                  <a:pt x="4957" y="875"/>
                </a:cubicBezTo>
                <a:cubicBezTo>
                  <a:pt x="3621" y="2606"/>
                  <a:pt x="3621" y="2606"/>
                  <a:pt x="3621" y="2606"/>
                </a:cubicBezTo>
                <a:cubicBezTo>
                  <a:pt x="3518" y="2757"/>
                  <a:pt x="3518" y="2757"/>
                  <a:pt x="3518" y="2757"/>
                </a:cubicBezTo>
                <a:cubicBezTo>
                  <a:pt x="3810" y="3340"/>
                  <a:pt x="3810" y="3340"/>
                  <a:pt x="3810" y="334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勾"/>
          <p:cNvSpPr/>
          <p:nvPr/>
        </p:nvSpPr>
        <p:spPr>
          <a:xfrm>
            <a:off x="1155600" y="2146320"/>
            <a:ext cx="449280" cy="66204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"/>
                            </p:stCondLst>
                            <p:childTnLst>
                              <p:par>
                                <p:cTn id="27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内容占位符 1"/>
          <p:cNvSpPr/>
          <p:nvPr/>
        </p:nvSpPr>
        <p:spPr>
          <a:xfrm>
            <a:off x="708120" y="324000"/>
            <a:ext cx="7505640" cy="24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Franklin Gothic Medium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一长方形木块，质量为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7 g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漂浮于密度为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0.9×10</a:t>
            </a:r>
            <a:r>
              <a:rPr b="1" lang="zh-CN" sz="2800" spc="-1" strike="noStrike" baseline="30000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 kg/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的液体中，露出液面的高度为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8 cm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木块底面积为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0.75 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Franklin Gothic Medium"/>
                <a:ea typeface="微软雅黑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，木块密度是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Franklin Gothic Medium"/>
              </a:rPr>
              <a:t>————————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kg/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Franklin Gothic Medium"/>
                <a:ea typeface="微软雅黑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804960" y="1817640"/>
            <a:ext cx="248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0.75×10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2087640" y="2354400"/>
            <a:ext cx="31446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087640" y="2828880"/>
            <a:ext cx="31446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-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2087640" y="3303720"/>
            <a:ext cx="4440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露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-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6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-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2087640" y="4254480"/>
            <a:ext cx="4440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m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木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/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0.7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g/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2070000" y="3778200"/>
            <a:ext cx="444024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木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露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3.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组合 12"/>
          <p:cNvGrpSpPr/>
          <p:nvPr/>
        </p:nvGrpSpPr>
        <p:grpSpPr>
          <a:xfrm>
            <a:off x="2252880" y="235080"/>
            <a:ext cx="1757160" cy="520560"/>
            <a:chOff x="2252880" y="235080"/>
            <a:chExt cx="1757160" cy="520560"/>
          </a:xfrm>
        </p:grpSpPr>
        <p:grpSp>
          <p:nvGrpSpPr>
            <p:cNvPr id="145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46" name="TextBox 14"/>
            <p:cNvSpPr/>
            <p:nvPr/>
          </p:nvSpPr>
          <p:spPr>
            <a:xfrm>
              <a:off x="2252880" y="23508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课堂小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图片 -2147482610" descr="本章复习3"/>
          <p:cNvPicPr/>
          <p:nvPr/>
        </p:nvPicPr>
        <p:blipFill>
          <a:blip r:embed="rId1"/>
          <a:stretch/>
        </p:blipFill>
        <p:spPr>
          <a:xfrm>
            <a:off x="503280" y="1130400"/>
            <a:ext cx="8223120" cy="31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48" name="直接箭头连接符 20"/>
          <p:cNvCxnSpPr/>
          <p:nvPr/>
        </p:nvCxnSpPr>
        <p:spPr>
          <a:xfrm flipV="1">
            <a:off x="906120" y="3603600"/>
            <a:ext cx="1080" cy="68292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9" name="直接箭头连接符 21"/>
          <p:cNvCxnSpPr/>
          <p:nvPr/>
        </p:nvCxnSpPr>
        <p:spPr>
          <a:xfrm flipV="1">
            <a:off x="906120" y="3413880"/>
            <a:ext cx="1080" cy="6850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50" name="Text Box 5"/>
          <p:cNvSpPr/>
          <p:nvPr/>
        </p:nvSpPr>
        <p:spPr>
          <a:xfrm>
            <a:off x="279360" y="3919680"/>
            <a:ext cx="7794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组合 21"/>
          <p:cNvGrpSpPr/>
          <p:nvPr/>
        </p:nvGrpSpPr>
        <p:grpSpPr>
          <a:xfrm>
            <a:off x="247680" y="154800"/>
            <a:ext cx="249480" cy="392760"/>
            <a:chOff x="247680" y="154800"/>
            <a:chExt cx="249480" cy="392760"/>
          </a:xfrm>
        </p:grpSpPr>
        <p:grpSp>
          <p:nvGrpSpPr>
            <p:cNvPr id="152" name="组合 22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53" name="Freeform 48"/>
            <p:cNvSpPr/>
            <p:nvPr/>
          </p:nvSpPr>
          <p:spPr>
            <a:xfrm>
              <a:off x="247680" y="154800"/>
              <a:ext cx="249480" cy="392760"/>
            </a:xfrm>
            <a:custGeom>
              <a:avLst/>
              <a:gdLst/>
              <a:ahLst/>
              <a:rect l="l" t="t" r="r" b="b"/>
              <a:pathLst>
                <a:path w="67" h="106">
                  <a:moveTo>
                    <a:pt x="33" y="0"/>
                  </a:moveTo>
                  <a:cubicBezTo>
                    <a:pt x="43" y="0"/>
                    <a:pt x="51" y="4"/>
                    <a:pt x="57" y="10"/>
                  </a:cubicBezTo>
                  <a:cubicBezTo>
                    <a:pt x="63" y="16"/>
                    <a:pt x="67" y="25"/>
                    <a:pt x="67" y="34"/>
                  </a:cubicBezTo>
                  <a:cubicBezTo>
                    <a:pt x="67" y="40"/>
                    <a:pt x="65" y="46"/>
                    <a:pt x="62" y="51"/>
                  </a:cubicBezTo>
                  <a:cubicBezTo>
                    <a:pt x="59" y="56"/>
                    <a:pt x="56" y="59"/>
                    <a:pt x="51" y="62"/>
                  </a:cubicBezTo>
                  <a:cubicBezTo>
                    <a:pt x="51" y="66"/>
                    <a:pt x="51" y="66"/>
                    <a:pt x="51" y="66"/>
                  </a:cubicBezTo>
                  <a:cubicBezTo>
                    <a:pt x="53" y="66"/>
                    <a:pt x="53" y="66"/>
                    <a:pt x="53" y="66"/>
                  </a:cubicBezTo>
                  <a:cubicBezTo>
                    <a:pt x="55" y="65"/>
                    <a:pt x="55" y="65"/>
                    <a:pt x="55" y="65"/>
                  </a:cubicBezTo>
                  <a:cubicBezTo>
                    <a:pt x="56" y="68"/>
                    <a:pt x="56" y="68"/>
                    <a:pt x="56" y="68"/>
                  </a:cubicBezTo>
                  <a:cubicBezTo>
                    <a:pt x="57" y="70"/>
                    <a:pt x="57" y="72"/>
                    <a:pt x="57" y="73"/>
                  </a:cubicBezTo>
                  <a:cubicBezTo>
                    <a:pt x="57" y="75"/>
                    <a:pt x="57" y="77"/>
                    <a:pt x="56" y="79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6" y="80"/>
                    <a:pt x="56" y="80"/>
                    <a:pt x="56" y="80"/>
                  </a:cubicBezTo>
                  <a:cubicBezTo>
                    <a:pt x="57" y="82"/>
                    <a:pt x="57" y="84"/>
                    <a:pt x="57" y="86"/>
                  </a:cubicBezTo>
                  <a:cubicBezTo>
                    <a:pt x="57" y="88"/>
                    <a:pt x="57" y="90"/>
                    <a:pt x="56" y="92"/>
                  </a:cubicBezTo>
                  <a:cubicBezTo>
                    <a:pt x="55" y="93"/>
                    <a:pt x="55" y="93"/>
                    <a:pt x="55" y="93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15" y="97"/>
                    <a:pt x="15" y="97"/>
                    <a:pt x="15" y="97"/>
                  </a:cubicBezTo>
                  <a:cubicBezTo>
                    <a:pt x="13" y="97"/>
                    <a:pt x="13" y="97"/>
                    <a:pt x="13" y="97"/>
                  </a:cubicBezTo>
                  <a:cubicBezTo>
                    <a:pt x="12" y="95"/>
                    <a:pt x="12" y="95"/>
                    <a:pt x="12" y="95"/>
                  </a:cubicBezTo>
                  <a:cubicBezTo>
                    <a:pt x="11" y="93"/>
                    <a:pt x="11" y="91"/>
                    <a:pt x="10" y="90"/>
                  </a:cubicBezTo>
                  <a:cubicBezTo>
                    <a:pt x="10" y="88"/>
                    <a:pt x="11" y="86"/>
                    <a:pt x="12" y="83"/>
                  </a:cubicBezTo>
                  <a:cubicBezTo>
                    <a:pt x="12" y="83"/>
                    <a:pt x="12" y="83"/>
                    <a:pt x="12" y="83"/>
                  </a:cubicBezTo>
                  <a:cubicBezTo>
                    <a:pt x="12" y="82"/>
                    <a:pt x="12" y="82"/>
                    <a:pt x="12" y="82"/>
                  </a:cubicBezTo>
                  <a:cubicBezTo>
                    <a:pt x="11" y="81"/>
                    <a:pt x="11" y="79"/>
                    <a:pt x="10" y="77"/>
                  </a:cubicBezTo>
                  <a:cubicBezTo>
                    <a:pt x="10" y="75"/>
                    <a:pt x="11" y="73"/>
                    <a:pt x="12" y="71"/>
                  </a:cubicBezTo>
                  <a:cubicBezTo>
                    <a:pt x="13" y="69"/>
                    <a:pt x="13" y="69"/>
                    <a:pt x="13" y="69"/>
                  </a:cubicBezTo>
                  <a:cubicBezTo>
                    <a:pt x="15" y="69"/>
                    <a:pt x="15" y="69"/>
                    <a:pt x="15" y="69"/>
                  </a:cubicBezTo>
                  <a:cubicBezTo>
                    <a:pt x="16" y="69"/>
                    <a:pt x="16" y="69"/>
                    <a:pt x="16" y="69"/>
                  </a:cubicBezTo>
                  <a:cubicBezTo>
                    <a:pt x="16" y="63"/>
                    <a:pt x="16" y="63"/>
                    <a:pt x="16" y="63"/>
                  </a:cubicBezTo>
                  <a:cubicBezTo>
                    <a:pt x="11" y="60"/>
                    <a:pt x="7" y="56"/>
                    <a:pt x="5" y="51"/>
                  </a:cubicBezTo>
                  <a:cubicBezTo>
                    <a:pt x="2" y="46"/>
                    <a:pt x="0" y="40"/>
                    <a:pt x="0" y="34"/>
                  </a:cubicBezTo>
                  <a:cubicBezTo>
                    <a:pt x="0" y="25"/>
                    <a:pt x="4" y="16"/>
                    <a:pt x="10" y="10"/>
                  </a:cubicBezTo>
                  <a:cubicBezTo>
                    <a:pt x="16" y="4"/>
                    <a:pt x="24" y="0"/>
                    <a:pt x="33" y="0"/>
                  </a:cubicBezTo>
                  <a:close/>
                  <a:moveTo>
                    <a:pt x="26" y="40"/>
                  </a:moveTo>
                  <a:cubicBezTo>
                    <a:pt x="27" y="41"/>
                    <a:pt x="27" y="41"/>
                    <a:pt x="28" y="41"/>
                  </a:cubicBezTo>
                  <a:cubicBezTo>
                    <a:pt x="28" y="41"/>
                    <a:pt x="29" y="41"/>
                    <a:pt x="30" y="40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31" y="40"/>
                    <a:pt x="31" y="40"/>
                    <a:pt x="31" y="40"/>
                  </a:cubicBezTo>
                  <a:cubicBezTo>
                    <a:pt x="32" y="41"/>
                    <a:pt x="32" y="41"/>
                    <a:pt x="33" y="41"/>
                  </a:cubicBezTo>
                  <a:cubicBezTo>
                    <a:pt x="34" y="41"/>
                    <a:pt x="35" y="41"/>
                    <a:pt x="35" y="40"/>
                  </a:cubicBezTo>
                  <a:cubicBezTo>
                    <a:pt x="36" y="39"/>
                    <a:pt x="36" y="39"/>
                    <a:pt x="36" y="39"/>
                  </a:cubicBezTo>
                  <a:cubicBezTo>
                    <a:pt x="36" y="40"/>
                    <a:pt x="36" y="40"/>
                    <a:pt x="36" y="40"/>
                  </a:cubicBezTo>
                  <a:cubicBezTo>
                    <a:pt x="37" y="41"/>
                    <a:pt x="38" y="41"/>
                    <a:pt x="39" y="41"/>
                  </a:cubicBezTo>
                  <a:cubicBezTo>
                    <a:pt x="40" y="41"/>
                    <a:pt x="41" y="41"/>
                    <a:pt x="42" y="40"/>
                  </a:cubicBezTo>
                  <a:cubicBezTo>
                    <a:pt x="43" y="38"/>
                    <a:pt x="43" y="38"/>
                    <a:pt x="43" y="38"/>
                  </a:cubicBezTo>
                  <a:cubicBezTo>
                    <a:pt x="46" y="40"/>
                    <a:pt x="46" y="40"/>
                    <a:pt x="46" y="40"/>
                  </a:cubicBezTo>
                  <a:cubicBezTo>
                    <a:pt x="39" y="52"/>
                    <a:pt x="39" y="52"/>
                    <a:pt x="39" y="52"/>
                  </a:cubicBezTo>
                  <a:cubicBezTo>
                    <a:pt x="39" y="67"/>
                    <a:pt x="39" y="67"/>
                    <a:pt x="39" y="67"/>
                  </a:cubicBezTo>
                  <a:cubicBezTo>
                    <a:pt x="44" y="66"/>
                    <a:pt x="44" y="66"/>
                    <a:pt x="44" y="66"/>
                  </a:cubicBezTo>
                  <a:cubicBezTo>
                    <a:pt x="44" y="60"/>
                    <a:pt x="44" y="60"/>
                    <a:pt x="44" y="60"/>
                  </a:cubicBezTo>
                  <a:cubicBezTo>
                    <a:pt x="44" y="58"/>
                    <a:pt x="44" y="58"/>
                    <a:pt x="44" y="58"/>
                  </a:cubicBezTo>
                  <a:cubicBezTo>
                    <a:pt x="46" y="57"/>
                    <a:pt x="46" y="57"/>
                    <a:pt x="46" y="57"/>
                  </a:cubicBezTo>
                  <a:cubicBezTo>
                    <a:pt x="50" y="55"/>
                    <a:pt x="54" y="52"/>
                    <a:pt x="56" y="47"/>
                  </a:cubicBezTo>
                  <a:cubicBezTo>
                    <a:pt x="59" y="44"/>
                    <a:pt x="60" y="39"/>
                    <a:pt x="60" y="34"/>
                  </a:cubicBezTo>
                  <a:cubicBezTo>
                    <a:pt x="60" y="27"/>
                    <a:pt x="57" y="20"/>
                    <a:pt x="52" y="15"/>
                  </a:cubicBezTo>
                  <a:cubicBezTo>
                    <a:pt x="47" y="10"/>
                    <a:pt x="41" y="7"/>
                    <a:pt x="33" y="7"/>
                  </a:cubicBezTo>
                  <a:cubicBezTo>
                    <a:pt x="26" y="7"/>
                    <a:pt x="19" y="10"/>
                    <a:pt x="15" y="15"/>
                  </a:cubicBezTo>
                  <a:cubicBezTo>
                    <a:pt x="10" y="20"/>
                    <a:pt x="7" y="27"/>
                    <a:pt x="7" y="34"/>
                  </a:cubicBezTo>
                  <a:cubicBezTo>
                    <a:pt x="7" y="39"/>
                    <a:pt x="8" y="44"/>
                    <a:pt x="11" y="48"/>
                  </a:cubicBezTo>
                  <a:cubicBezTo>
                    <a:pt x="13" y="52"/>
                    <a:pt x="17" y="55"/>
                    <a:pt x="21" y="58"/>
                  </a:cubicBezTo>
                  <a:cubicBezTo>
                    <a:pt x="23" y="59"/>
                    <a:pt x="23" y="59"/>
                    <a:pt x="23" y="59"/>
                  </a:cubicBezTo>
                  <a:cubicBezTo>
                    <a:pt x="23" y="61"/>
                    <a:pt x="23" y="61"/>
                    <a:pt x="23" y="61"/>
                  </a:cubicBezTo>
                  <a:cubicBezTo>
                    <a:pt x="23" y="67"/>
                    <a:pt x="23" y="67"/>
                    <a:pt x="23" y="67"/>
                  </a:cubicBezTo>
                  <a:cubicBezTo>
                    <a:pt x="29" y="67"/>
                    <a:pt x="29" y="67"/>
                    <a:pt x="29" y="67"/>
                  </a:cubicBezTo>
                  <a:cubicBezTo>
                    <a:pt x="29" y="52"/>
                    <a:pt x="29" y="52"/>
                    <a:pt x="29" y="52"/>
                  </a:cubicBezTo>
                  <a:cubicBezTo>
                    <a:pt x="22" y="40"/>
                    <a:pt x="22" y="40"/>
                    <a:pt x="22" y="40"/>
                  </a:cubicBezTo>
                  <a:cubicBezTo>
                    <a:pt x="25" y="38"/>
                    <a:pt x="25" y="38"/>
                    <a:pt x="25" y="38"/>
                  </a:cubicBezTo>
                  <a:cubicBezTo>
                    <a:pt x="26" y="40"/>
                    <a:pt x="26" y="40"/>
                    <a:pt x="26" y="40"/>
                  </a:cubicBezTo>
                  <a:close/>
                  <a:moveTo>
                    <a:pt x="40" y="43"/>
                  </a:moveTo>
                  <a:cubicBezTo>
                    <a:pt x="40" y="43"/>
                    <a:pt x="40" y="43"/>
                    <a:pt x="39" y="43"/>
                  </a:cubicBezTo>
                  <a:cubicBezTo>
                    <a:pt x="38" y="43"/>
                    <a:pt x="37" y="43"/>
                    <a:pt x="36" y="42"/>
                  </a:cubicBezTo>
                  <a:cubicBezTo>
                    <a:pt x="35" y="42"/>
                    <a:pt x="34" y="43"/>
                    <a:pt x="33" y="43"/>
                  </a:cubicBezTo>
                  <a:cubicBezTo>
                    <a:pt x="32" y="43"/>
                    <a:pt x="31" y="42"/>
                    <a:pt x="30" y="42"/>
                  </a:cubicBezTo>
                  <a:cubicBezTo>
                    <a:pt x="29" y="42"/>
                    <a:pt x="28" y="43"/>
                    <a:pt x="28" y="43"/>
                  </a:cubicBezTo>
                  <a:cubicBezTo>
                    <a:pt x="27" y="43"/>
                    <a:pt x="27" y="43"/>
                    <a:pt x="27" y="42"/>
                  </a:cubicBezTo>
                  <a:cubicBezTo>
                    <a:pt x="32" y="50"/>
                    <a:pt x="32" y="50"/>
                    <a:pt x="32" y="50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51"/>
                    <a:pt x="32" y="51"/>
                    <a:pt x="32" y="51"/>
                  </a:cubicBezTo>
                  <a:cubicBezTo>
                    <a:pt x="32" y="67"/>
                    <a:pt x="32" y="67"/>
                    <a:pt x="32" y="67"/>
                  </a:cubicBezTo>
                  <a:cubicBezTo>
                    <a:pt x="35" y="67"/>
                    <a:pt x="35" y="67"/>
                    <a:pt x="35" y="67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1"/>
                    <a:pt x="35" y="51"/>
                    <a:pt x="35" y="51"/>
                  </a:cubicBezTo>
                  <a:cubicBezTo>
                    <a:pt x="35" y="50"/>
                    <a:pt x="35" y="50"/>
                    <a:pt x="35" y="50"/>
                  </a:cubicBezTo>
                  <a:cubicBezTo>
                    <a:pt x="40" y="43"/>
                    <a:pt x="40" y="43"/>
                    <a:pt x="40" y="43"/>
                  </a:cubicBezTo>
                  <a:close/>
                  <a:moveTo>
                    <a:pt x="43" y="96"/>
                  </a:moveTo>
                  <a:cubicBezTo>
                    <a:pt x="24" y="98"/>
                    <a:pt x="24" y="98"/>
                    <a:pt x="24" y="98"/>
                  </a:cubicBezTo>
                  <a:cubicBezTo>
                    <a:pt x="25" y="103"/>
                    <a:pt x="29" y="106"/>
                    <a:pt x="34" y="106"/>
                  </a:cubicBezTo>
                  <a:cubicBezTo>
                    <a:pt x="39" y="106"/>
                    <a:pt x="43" y="102"/>
                    <a:pt x="43" y="97"/>
                  </a:cubicBezTo>
                  <a:cubicBezTo>
                    <a:pt x="43" y="97"/>
                    <a:pt x="43" y="97"/>
                    <a:pt x="43" y="96"/>
                  </a:cubicBezTo>
                  <a:close/>
                  <a:moveTo>
                    <a:pt x="50" y="85"/>
                  </a:moveTo>
                  <a:cubicBezTo>
                    <a:pt x="17" y="88"/>
                    <a:pt x="17" y="88"/>
                    <a:pt x="17" y="88"/>
                  </a:cubicBezTo>
                  <a:cubicBezTo>
                    <a:pt x="17" y="89"/>
                    <a:pt x="17" y="89"/>
                    <a:pt x="17" y="89"/>
                  </a:cubicBezTo>
                  <a:cubicBezTo>
                    <a:pt x="17" y="89"/>
                    <a:pt x="17" y="90"/>
                    <a:pt x="17" y="90"/>
                  </a:cubicBezTo>
                  <a:cubicBezTo>
                    <a:pt x="50" y="87"/>
                    <a:pt x="50" y="87"/>
                    <a:pt x="50" y="87"/>
                  </a:cubicBezTo>
                  <a:cubicBezTo>
                    <a:pt x="50" y="87"/>
                    <a:pt x="50" y="86"/>
                    <a:pt x="50" y="86"/>
                  </a:cubicBezTo>
                  <a:cubicBezTo>
                    <a:pt x="50" y="86"/>
                    <a:pt x="50" y="86"/>
                    <a:pt x="50" y="85"/>
                  </a:cubicBezTo>
                  <a:close/>
                  <a:moveTo>
                    <a:pt x="50" y="73"/>
                  </a:moveTo>
                  <a:cubicBezTo>
                    <a:pt x="17" y="76"/>
                    <a:pt x="17" y="76"/>
                    <a:pt x="17" y="76"/>
                  </a:cubicBezTo>
                  <a:cubicBezTo>
                    <a:pt x="17" y="76"/>
                    <a:pt x="17" y="76"/>
                    <a:pt x="17" y="77"/>
                  </a:cubicBezTo>
                  <a:cubicBezTo>
                    <a:pt x="17" y="77"/>
                    <a:pt x="17" y="77"/>
                    <a:pt x="17" y="77"/>
                  </a:cubicBezTo>
                  <a:cubicBezTo>
                    <a:pt x="50" y="74"/>
                    <a:pt x="50" y="74"/>
                    <a:pt x="50" y="74"/>
                  </a:cubicBezTo>
                  <a:cubicBezTo>
                    <a:pt x="50" y="74"/>
                    <a:pt x="50" y="74"/>
                    <a:pt x="50" y="73"/>
                  </a:cubicBezTo>
                  <a:cubicBezTo>
                    <a:pt x="50" y="73"/>
                    <a:pt x="50" y="73"/>
                    <a:pt x="50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2"/>
          <p:cNvSpPr/>
          <p:nvPr/>
        </p:nvSpPr>
        <p:spPr>
          <a:xfrm>
            <a:off x="277920" y="1267560"/>
            <a:ext cx="7700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一个大物块甲，先后两次分别在小物块乙和小物块丙的作用下，其上表面恰好与水面相平，甲、乙之间用绳连接，如图所示。则下列说法正确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两种情况下，甲物块所受浮力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绳的拉力与丙物块的重力大小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乙物块的密度比水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乙物块的质量比丙物块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图片 1073742866" descr="SH71"/>
          <p:cNvPicPr/>
          <p:nvPr/>
        </p:nvPicPr>
        <p:blipFill>
          <a:blip r:embed="rId1"/>
          <a:stretch/>
        </p:blipFill>
        <p:spPr>
          <a:xfrm>
            <a:off x="5838840" y="3224160"/>
            <a:ext cx="2311560" cy="118116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5"/>
          <p:cNvSpPr/>
          <p:nvPr/>
        </p:nvSpPr>
        <p:spPr>
          <a:xfrm>
            <a:off x="7058160" y="2023920"/>
            <a:ext cx="1492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排开水的体积不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勾"/>
          <p:cNvSpPr/>
          <p:nvPr/>
        </p:nvSpPr>
        <p:spPr>
          <a:xfrm>
            <a:off x="1082520" y="2178000"/>
            <a:ext cx="449280" cy="66060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 184"/>
          <p:cNvSpPr/>
          <p:nvPr/>
        </p:nvSpPr>
        <p:spPr>
          <a:xfrm>
            <a:off x="6362640" y="3594240"/>
            <a:ext cx="71640" cy="712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直接箭头连接符 2"/>
          <p:cNvCxnSpPr>
            <a:stCxn id="158" idx="4"/>
          </p:cNvCxnSpPr>
          <p:nvPr/>
        </p:nvCxnSpPr>
        <p:spPr>
          <a:xfrm>
            <a:off x="6397200" y="3665520"/>
            <a:ext cx="1080" cy="2944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0" name="直接箭头连接符 3"/>
          <p:cNvCxnSpPr>
            <a:stCxn id="158" idx="4"/>
          </p:cNvCxnSpPr>
          <p:nvPr/>
        </p:nvCxnSpPr>
        <p:spPr>
          <a:xfrm>
            <a:off x="6397200" y="3666600"/>
            <a:ext cx="1080" cy="6850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1" name="Text Box 5"/>
          <p:cNvSpPr/>
          <p:nvPr/>
        </p:nvSpPr>
        <p:spPr>
          <a:xfrm>
            <a:off x="5551560" y="3541680"/>
            <a:ext cx="6588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551560" y="4019400"/>
            <a:ext cx="6588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551560" y="3063960"/>
            <a:ext cx="7794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直接箭头连接符 7"/>
          <p:cNvCxnSpPr>
            <a:stCxn id="158" idx="4"/>
          </p:cNvCxnSpPr>
          <p:nvPr/>
        </p:nvCxnSpPr>
        <p:spPr>
          <a:xfrm flipV="1">
            <a:off x="6397200" y="2980440"/>
            <a:ext cx="1080" cy="6850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5" name=" 184"/>
          <p:cNvSpPr/>
          <p:nvPr/>
        </p:nvSpPr>
        <p:spPr>
          <a:xfrm>
            <a:off x="7564320" y="3720960"/>
            <a:ext cx="730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直接箭头连接符 9"/>
          <p:cNvCxnSpPr>
            <a:stCxn id="165" idx="4"/>
          </p:cNvCxnSpPr>
          <p:nvPr/>
        </p:nvCxnSpPr>
        <p:spPr>
          <a:xfrm>
            <a:off x="7610040" y="3792600"/>
            <a:ext cx="1080" cy="2944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7" name="直接箭头连接符 10"/>
          <p:cNvCxnSpPr>
            <a:stCxn id="165" idx="4"/>
          </p:cNvCxnSpPr>
          <p:nvPr/>
        </p:nvCxnSpPr>
        <p:spPr>
          <a:xfrm>
            <a:off x="7600680" y="3793680"/>
            <a:ext cx="1080" cy="6850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68" name="直接箭头连接符 11"/>
          <p:cNvCxnSpPr>
            <a:stCxn id="165" idx="4"/>
          </p:cNvCxnSpPr>
          <p:nvPr/>
        </p:nvCxnSpPr>
        <p:spPr>
          <a:xfrm flipV="1">
            <a:off x="7600680" y="3107520"/>
            <a:ext cx="1080" cy="6850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69" name="Text Box 5"/>
          <p:cNvSpPr/>
          <p:nvPr/>
        </p:nvSpPr>
        <p:spPr>
          <a:xfrm>
            <a:off x="8042400" y="3489480"/>
            <a:ext cx="6588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8042400" y="3965400"/>
            <a:ext cx="7794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8042400" y="3011400"/>
            <a:ext cx="7794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勾"/>
          <p:cNvSpPr/>
          <p:nvPr/>
        </p:nvSpPr>
        <p:spPr>
          <a:xfrm>
            <a:off x="1082520" y="2689200"/>
            <a:ext cx="449280" cy="66204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 19"/>
          <p:cNvSpPr/>
          <p:nvPr/>
        </p:nvSpPr>
        <p:spPr>
          <a:xfrm>
            <a:off x="851040" y="4133880"/>
            <a:ext cx="110880" cy="1112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直接箭头连接符 19"/>
          <p:cNvCxnSpPr>
            <a:stCxn id="165" idx="4"/>
          </p:cNvCxnSpPr>
          <p:nvPr/>
        </p:nvCxnSpPr>
        <p:spPr>
          <a:xfrm>
            <a:off x="904680" y="4212720"/>
            <a:ext cx="1080" cy="685080"/>
          </a:xfrm>
          <a:prstGeom prst="straightConnector1">
            <a:avLst/>
          </a:prstGeom>
          <a:ln w="2556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75" name="Text Box 5"/>
          <p:cNvSpPr/>
          <p:nvPr/>
        </p:nvSpPr>
        <p:spPr>
          <a:xfrm>
            <a:off x="1101600" y="4405320"/>
            <a:ext cx="7779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11240" y="3414600"/>
            <a:ext cx="877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84240" y="3011400"/>
            <a:ext cx="8776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449520" y="4027320"/>
            <a:ext cx="15973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3622680" y="4443480"/>
            <a:ext cx="15969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叉"/>
          <p:cNvSpPr/>
          <p:nvPr/>
        </p:nvSpPr>
        <p:spPr>
          <a:xfrm>
            <a:off x="1058760" y="3268800"/>
            <a:ext cx="312840" cy="531720"/>
          </a:xfrm>
          <a:custGeom>
            <a:avLst/>
            <a:gdLst/>
            <a:ahLst/>
            <a:rect l="l" t="t" r="r" b="b"/>
            <a:pathLst>
              <a:path w="5381" h="6858">
                <a:moveTo>
                  <a:pt x="3810" y="3340"/>
                </a:moveTo>
                <a:cubicBezTo>
                  <a:pt x="4543" y="4911"/>
                  <a:pt x="4543" y="4911"/>
                  <a:pt x="4543" y="4911"/>
                </a:cubicBezTo>
                <a:cubicBezTo>
                  <a:pt x="4515" y="4977"/>
                  <a:pt x="4478" y="5014"/>
                  <a:pt x="4412" y="5043"/>
                </a:cubicBezTo>
                <a:cubicBezTo>
                  <a:pt x="4412" y="5118"/>
                  <a:pt x="4412" y="5118"/>
                  <a:pt x="4412" y="5118"/>
                </a:cubicBezTo>
                <a:cubicBezTo>
                  <a:pt x="4374" y="5156"/>
                  <a:pt x="4223" y="5212"/>
                  <a:pt x="4223" y="5269"/>
                </a:cubicBezTo>
                <a:cubicBezTo>
                  <a:pt x="4223" y="5306"/>
                  <a:pt x="4252" y="5363"/>
                  <a:pt x="4270" y="5400"/>
                </a:cubicBezTo>
                <a:cubicBezTo>
                  <a:pt x="4252" y="5513"/>
                  <a:pt x="4073" y="5635"/>
                  <a:pt x="3960" y="5635"/>
                </a:cubicBezTo>
                <a:cubicBezTo>
                  <a:pt x="3838" y="5635"/>
                  <a:pt x="3649" y="5297"/>
                  <a:pt x="3602" y="5222"/>
                </a:cubicBezTo>
                <a:cubicBezTo>
                  <a:pt x="2718" y="3857"/>
                  <a:pt x="2718" y="3857"/>
                  <a:pt x="2718" y="3857"/>
                </a:cubicBezTo>
                <a:cubicBezTo>
                  <a:pt x="855" y="6746"/>
                  <a:pt x="855" y="6746"/>
                  <a:pt x="855" y="6746"/>
                </a:cubicBezTo>
                <a:cubicBezTo>
                  <a:pt x="743" y="6830"/>
                  <a:pt x="498" y="6858"/>
                  <a:pt x="366" y="6858"/>
                </a:cubicBezTo>
                <a:cubicBezTo>
                  <a:pt x="244" y="6858"/>
                  <a:pt x="225" y="6764"/>
                  <a:pt x="169" y="6670"/>
                </a:cubicBezTo>
                <a:cubicBezTo>
                  <a:pt x="112" y="6586"/>
                  <a:pt x="28" y="6482"/>
                  <a:pt x="28" y="6379"/>
                </a:cubicBezTo>
                <a:cubicBezTo>
                  <a:pt x="28" y="6322"/>
                  <a:pt x="37" y="6285"/>
                  <a:pt x="56" y="6228"/>
                </a:cubicBezTo>
                <a:cubicBezTo>
                  <a:pt x="75" y="6153"/>
                  <a:pt x="112" y="6097"/>
                  <a:pt x="47" y="6040"/>
                </a:cubicBezTo>
                <a:cubicBezTo>
                  <a:pt x="28" y="6021"/>
                  <a:pt x="0" y="6002"/>
                  <a:pt x="0" y="5974"/>
                </a:cubicBezTo>
                <a:cubicBezTo>
                  <a:pt x="0" y="5852"/>
                  <a:pt x="159" y="5626"/>
                  <a:pt x="225" y="5513"/>
                </a:cubicBezTo>
                <a:cubicBezTo>
                  <a:pt x="451" y="5128"/>
                  <a:pt x="451" y="5128"/>
                  <a:pt x="451" y="5128"/>
                </a:cubicBezTo>
                <a:cubicBezTo>
                  <a:pt x="837" y="4450"/>
                  <a:pt x="1552" y="3603"/>
                  <a:pt x="2060" y="2992"/>
                </a:cubicBezTo>
                <a:cubicBezTo>
                  <a:pt x="2172" y="2860"/>
                  <a:pt x="2172" y="2860"/>
                  <a:pt x="2172" y="2860"/>
                </a:cubicBezTo>
                <a:cubicBezTo>
                  <a:pt x="1476" y="941"/>
                  <a:pt x="1476" y="941"/>
                  <a:pt x="1476" y="941"/>
                </a:cubicBezTo>
                <a:cubicBezTo>
                  <a:pt x="1448" y="866"/>
                  <a:pt x="1373" y="706"/>
                  <a:pt x="1373" y="621"/>
                </a:cubicBezTo>
                <a:cubicBezTo>
                  <a:pt x="1373" y="556"/>
                  <a:pt x="1458" y="471"/>
                  <a:pt x="1495" y="424"/>
                </a:cubicBezTo>
                <a:cubicBezTo>
                  <a:pt x="1561" y="367"/>
                  <a:pt x="1561" y="367"/>
                  <a:pt x="1561" y="367"/>
                </a:cubicBezTo>
                <a:cubicBezTo>
                  <a:pt x="1580" y="348"/>
                  <a:pt x="1599" y="339"/>
                  <a:pt x="1627" y="339"/>
                </a:cubicBezTo>
                <a:cubicBezTo>
                  <a:pt x="1693" y="339"/>
                  <a:pt x="1730" y="386"/>
                  <a:pt x="1778" y="424"/>
                </a:cubicBezTo>
                <a:cubicBezTo>
                  <a:pt x="1834" y="377"/>
                  <a:pt x="1862" y="377"/>
                  <a:pt x="1928" y="377"/>
                </a:cubicBezTo>
                <a:cubicBezTo>
                  <a:pt x="1984" y="348"/>
                  <a:pt x="1984" y="348"/>
                  <a:pt x="2013" y="311"/>
                </a:cubicBezTo>
                <a:cubicBezTo>
                  <a:pt x="2041" y="264"/>
                  <a:pt x="2060" y="236"/>
                  <a:pt x="2116" y="236"/>
                </a:cubicBezTo>
                <a:cubicBezTo>
                  <a:pt x="2219" y="236"/>
                  <a:pt x="2248" y="330"/>
                  <a:pt x="2285" y="405"/>
                </a:cubicBezTo>
                <a:cubicBezTo>
                  <a:pt x="2671" y="1176"/>
                  <a:pt x="2671" y="1176"/>
                  <a:pt x="2671" y="1176"/>
                </a:cubicBezTo>
                <a:cubicBezTo>
                  <a:pt x="3000" y="1816"/>
                  <a:pt x="3000" y="1816"/>
                  <a:pt x="3000" y="1816"/>
                </a:cubicBezTo>
                <a:cubicBezTo>
                  <a:pt x="3235" y="1524"/>
                  <a:pt x="3235" y="1524"/>
                  <a:pt x="3235" y="1524"/>
                </a:cubicBezTo>
                <a:cubicBezTo>
                  <a:pt x="3696" y="998"/>
                  <a:pt x="3696" y="998"/>
                  <a:pt x="3696" y="998"/>
                </a:cubicBezTo>
                <a:cubicBezTo>
                  <a:pt x="3800" y="875"/>
                  <a:pt x="4515" y="10"/>
                  <a:pt x="4600" y="10"/>
                </a:cubicBezTo>
                <a:cubicBezTo>
                  <a:pt x="4656" y="10"/>
                  <a:pt x="4873" y="142"/>
                  <a:pt x="4929" y="189"/>
                </a:cubicBezTo>
                <a:cubicBezTo>
                  <a:pt x="5033" y="95"/>
                  <a:pt x="5033" y="95"/>
                  <a:pt x="5033" y="95"/>
                </a:cubicBezTo>
                <a:cubicBezTo>
                  <a:pt x="5051" y="66"/>
                  <a:pt x="5108" y="0"/>
                  <a:pt x="5136" y="0"/>
                </a:cubicBezTo>
                <a:cubicBezTo>
                  <a:pt x="5164" y="0"/>
                  <a:pt x="5183" y="57"/>
                  <a:pt x="5192" y="76"/>
                </a:cubicBezTo>
                <a:cubicBezTo>
                  <a:pt x="5230" y="170"/>
                  <a:pt x="5381" y="273"/>
                  <a:pt x="5381" y="339"/>
                </a:cubicBezTo>
                <a:cubicBezTo>
                  <a:pt x="5381" y="396"/>
                  <a:pt x="5315" y="452"/>
                  <a:pt x="5277" y="489"/>
                </a:cubicBezTo>
                <a:cubicBezTo>
                  <a:pt x="5173" y="584"/>
                  <a:pt x="5042" y="762"/>
                  <a:pt x="4957" y="875"/>
                </a:cubicBezTo>
                <a:cubicBezTo>
                  <a:pt x="3621" y="2606"/>
                  <a:pt x="3621" y="2606"/>
                  <a:pt x="3621" y="2606"/>
                </a:cubicBezTo>
                <a:cubicBezTo>
                  <a:pt x="3518" y="2757"/>
                  <a:pt x="3518" y="2757"/>
                  <a:pt x="3518" y="2757"/>
                </a:cubicBezTo>
                <a:cubicBezTo>
                  <a:pt x="3810" y="3340"/>
                  <a:pt x="3810" y="3340"/>
                  <a:pt x="3810" y="3340"/>
                </a:cubicBez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6850080" y="4054320"/>
            <a:ext cx="558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1359000" y="4000680"/>
            <a:ext cx="20905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乙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784520" y="4422600"/>
            <a:ext cx="159696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乙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＞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勾"/>
          <p:cNvSpPr/>
          <p:nvPr/>
        </p:nvSpPr>
        <p:spPr>
          <a:xfrm>
            <a:off x="1101600" y="3584520"/>
            <a:ext cx="449280" cy="660600"/>
          </a:xfrm>
          <a:custGeom>
            <a:avLst/>
            <a:gdLst/>
            <a:ahLst/>
            <a:rect l="l" t="t" r="r" b="b"/>
            <a:pathLst>
              <a:path w="1360" h="1358">
                <a:moveTo>
                  <a:pt x="1331" y="0"/>
                </a:moveTo>
                <a:lnTo>
                  <a:pt x="1360" y="54"/>
                </a:lnTo>
                <a:lnTo>
                  <a:pt x="1287" y="109"/>
                </a:lnTo>
                <a:lnTo>
                  <a:pt x="1216" y="169"/>
                </a:lnTo>
                <a:lnTo>
                  <a:pt x="1145" y="232"/>
                </a:lnTo>
                <a:lnTo>
                  <a:pt x="1076" y="299"/>
                </a:lnTo>
                <a:lnTo>
                  <a:pt x="1007" y="368"/>
                </a:lnTo>
                <a:lnTo>
                  <a:pt x="941" y="443"/>
                </a:lnTo>
                <a:lnTo>
                  <a:pt x="876" y="520"/>
                </a:lnTo>
                <a:lnTo>
                  <a:pt x="813" y="602"/>
                </a:lnTo>
                <a:lnTo>
                  <a:pt x="751" y="685"/>
                </a:lnTo>
                <a:lnTo>
                  <a:pt x="693" y="765"/>
                </a:lnTo>
                <a:lnTo>
                  <a:pt x="642" y="848"/>
                </a:lnTo>
                <a:lnTo>
                  <a:pt x="594" y="930"/>
                </a:lnTo>
                <a:lnTo>
                  <a:pt x="551" y="1011"/>
                </a:lnTo>
                <a:lnTo>
                  <a:pt x="511" y="1091"/>
                </a:lnTo>
                <a:lnTo>
                  <a:pt x="476" y="1172"/>
                </a:lnTo>
                <a:lnTo>
                  <a:pt x="446" y="1251"/>
                </a:lnTo>
                <a:lnTo>
                  <a:pt x="401" y="1281"/>
                </a:lnTo>
                <a:lnTo>
                  <a:pt x="375" y="1300"/>
                </a:lnTo>
                <a:lnTo>
                  <a:pt x="348" y="1320"/>
                </a:lnTo>
                <a:lnTo>
                  <a:pt x="325" y="1339"/>
                </a:lnTo>
                <a:lnTo>
                  <a:pt x="304" y="1358"/>
                </a:lnTo>
                <a:lnTo>
                  <a:pt x="298" y="1337"/>
                </a:lnTo>
                <a:lnTo>
                  <a:pt x="290" y="1310"/>
                </a:lnTo>
                <a:lnTo>
                  <a:pt x="279" y="1276"/>
                </a:lnTo>
                <a:lnTo>
                  <a:pt x="263" y="1237"/>
                </a:lnTo>
                <a:lnTo>
                  <a:pt x="240" y="1178"/>
                </a:lnTo>
                <a:lnTo>
                  <a:pt x="221" y="1132"/>
                </a:lnTo>
                <a:lnTo>
                  <a:pt x="204" y="1088"/>
                </a:lnTo>
                <a:lnTo>
                  <a:pt x="186" y="1049"/>
                </a:lnTo>
                <a:lnTo>
                  <a:pt x="171" y="1013"/>
                </a:lnTo>
                <a:lnTo>
                  <a:pt x="156" y="982"/>
                </a:lnTo>
                <a:lnTo>
                  <a:pt x="140" y="953"/>
                </a:lnTo>
                <a:lnTo>
                  <a:pt x="125" y="928"/>
                </a:lnTo>
                <a:lnTo>
                  <a:pt x="111" y="907"/>
                </a:lnTo>
                <a:lnTo>
                  <a:pt x="100" y="890"/>
                </a:lnTo>
                <a:lnTo>
                  <a:pt x="86" y="873"/>
                </a:lnTo>
                <a:lnTo>
                  <a:pt x="71" y="859"/>
                </a:lnTo>
                <a:lnTo>
                  <a:pt x="58" y="848"/>
                </a:lnTo>
                <a:lnTo>
                  <a:pt x="44" y="838"/>
                </a:lnTo>
                <a:lnTo>
                  <a:pt x="29" y="832"/>
                </a:lnTo>
                <a:lnTo>
                  <a:pt x="15" y="827"/>
                </a:lnTo>
                <a:lnTo>
                  <a:pt x="0" y="825"/>
                </a:lnTo>
                <a:lnTo>
                  <a:pt x="19" y="806"/>
                </a:lnTo>
                <a:lnTo>
                  <a:pt x="38" y="790"/>
                </a:lnTo>
                <a:lnTo>
                  <a:pt x="58" y="777"/>
                </a:lnTo>
                <a:lnTo>
                  <a:pt x="77" y="765"/>
                </a:lnTo>
                <a:lnTo>
                  <a:pt x="94" y="758"/>
                </a:lnTo>
                <a:lnTo>
                  <a:pt x="109" y="752"/>
                </a:lnTo>
                <a:lnTo>
                  <a:pt x="127" y="748"/>
                </a:lnTo>
                <a:lnTo>
                  <a:pt x="142" y="746"/>
                </a:lnTo>
                <a:lnTo>
                  <a:pt x="163" y="750"/>
                </a:lnTo>
                <a:lnTo>
                  <a:pt x="184" y="761"/>
                </a:lnTo>
                <a:lnTo>
                  <a:pt x="207" y="779"/>
                </a:lnTo>
                <a:lnTo>
                  <a:pt x="231" y="806"/>
                </a:lnTo>
                <a:lnTo>
                  <a:pt x="254" y="838"/>
                </a:lnTo>
                <a:lnTo>
                  <a:pt x="277" y="878"/>
                </a:lnTo>
                <a:lnTo>
                  <a:pt x="302" y="924"/>
                </a:lnTo>
                <a:lnTo>
                  <a:pt x="327" y="980"/>
                </a:lnTo>
                <a:lnTo>
                  <a:pt x="363" y="1063"/>
                </a:lnTo>
                <a:lnTo>
                  <a:pt x="409" y="982"/>
                </a:lnTo>
                <a:lnTo>
                  <a:pt x="457" y="901"/>
                </a:lnTo>
                <a:lnTo>
                  <a:pt x="507" y="823"/>
                </a:lnTo>
                <a:lnTo>
                  <a:pt x="561" y="744"/>
                </a:lnTo>
                <a:lnTo>
                  <a:pt x="615" y="669"/>
                </a:lnTo>
                <a:lnTo>
                  <a:pt x="672" y="596"/>
                </a:lnTo>
                <a:lnTo>
                  <a:pt x="732" y="524"/>
                </a:lnTo>
                <a:lnTo>
                  <a:pt x="795" y="453"/>
                </a:lnTo>
                <a:lnTo>
                  <a:pt x="859" y="385"/>
                </a:lnTo>
                <a:lnTo>
                  <a:pt x="924" y="320"/>
                </a:lnTo>
                <a:lnTo>
                  <a:pt x="989" y="259"/>
                </a:lnTo>
                <a:lnTo>
                  <a:pt x="1055" y="199"/>
                </a:lnTo>
                <a:lnTo>
                  <a:pt x="1124" y="144"/>
                </a:lnTo>
                <a:lnTo>
                  <a:pt x="1191" y="92"/>
                </a:lnTo>
                <a:lnTo>
                  <a:pt x="1260" y="44"/>
                </a:lnTo>
                <a:lnTo>
                  <a:pt x="1331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735200" y="1847880"/>
            <a:ext cx="1108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"/>
                            </p:stCondLst>
                            <p:childTnLst>
                              <p:par>
                                <p:cTn id="40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组合 12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187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88" name="TextBox 3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布置作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Rectangle 2"/>
          <p:cNvSpPr/>
          <p:nvPr/>
        </p:nvSpPr>
        <p:spPr>
          <a:xfrm>
            <a:off x="1959120" y="1409760"/>
            <a:ext cx="5972040" cy="18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从课后习题中选取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完成练习册本课时的习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7"/>
          <p:cNvSpPr/>
          <p:nvPr/>
        </p:nvSpPr>
        <p:spPr>
          <a:xfrm>
            <a:off x="522360" y="698400"/>
            <a:ext cx="171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"/>
          <p:cNvSpPr/>
          <p:nvPr/>
        </p:nvSpPr>
        <p:spPr>
          <a:xfrm>
            <a:off x="2119320" y="738360"/>
            <a:ext cx="648324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认识浮力，了解浮力产生的原因，会利用弹簧测力计“称重法”测量浮力，了解影响浮力大小的因素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知道阿基米德原理，会利用阿基米德原理计算浮力的大小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理解浮沉条件，能利用浮沉条件解释轮船、潜水艇、飞艇和热气球等的工作原理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组合 13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47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48" name="TextBox 15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复习要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26"/>
          <p:cNvSpPr/>
          <p:nvPr/>
        </p:nvSpPr>
        <p:spPr>
          <a:xfrm>
            <a:off x="500040" y="958680"/>
            <a:ext cx="16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重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500040" y="1690560"/>
            <a:ext cx="169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难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"/>
          <p:cNvSpPr/>
          <p:nvPr/>
        </p:nvSpPr>
        <p:spPr>
          <a:xfrm>
            <a:off x="2170080" y="971640"/>
            <a:ext cx="638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0360" indent="-360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浮、下沉、漂浮、悬浮的分析与判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2170080" y="1679400"/>
            <a:ext cx="6381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实验法：会正确使用量筒、弹簧测力计、烧杯等仪器来探究阿基米德原理和影响浮力大小的因素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归纳法：通过对本章知识的归纳总结，体会知识内容之间的联系，进而系统复习本章知识</a:t>
            </a:r>
            <a:r>
              <a:rPr b="1" lang="zh-CN" sz="2800" spc="-1" strike="noStrike">
                <a:solidFill>
                  <a:srgbClr val="000000"/>
                </a:solidFill>
                <a:latin typeface="Franklin Gothic Medium"/>
                <a:ea typeface="微软雅黑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组合 9"/>
          <p:cNvGrpSpPr/>
          <p:nvPr/>
        </p:nvGrpSpPr>
        <p:grpSpPr>
          <a:xfrm>
            <a:off x="2252880" y="74520"/>
            <a:ext cx="1757160" cy="520560"/>
            <a:chOff x="2252880" y="74520"/>
            <a:chExt cx="1757160" cy="520560"/>
          </a:xfrm>
        </p:grpSpPr>
        <p:grpSp>
          <p:nvGrpSpPr>
            <p:cNvPr id="54" name="组合 1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55" name="TextBox 11"/>
            <p:cNvSpPr/>
            <p:nvPr/>
          </p:nvSpPr>
          <p:spPr>
            <a:xfrm>
              <a:off x="2252880" y="74520"/>
              <a:ext cx="175716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38183" dir="2700000" blurRad="0" rotWithShape="0">
                <a:srgbClr val="7f7f7f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归纳总结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矩形 4"/>
          <p:cNvSpPr/>
          <p:nvPr/>
        </p:nvSpPr>
        <p:spPr>
          <a:xfrm>
            <a:off x="2665440" y="93024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探究影响浮力大小的因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4"/>
          <p:cNvSpPr/>
          <p:nvPr/>
        </p:nvSpPr>
        <p:spPr>
          <a:xfrm>
            <a:off x="950760" y="89676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901800" y="1681200"/>
            <a:ext cx="75866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物体在液体中所受的浮力的大小，跟浸在液体中的体积有关，跟液体的密度有关。物体浸在液体中的体积越大，液体的密度越大，浮力就越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5"/>
          <p:cNvSpPr/>
          <p:nvPr/>
        </p:nvSpPr>
        <p:spPr>
          <a:xfrm>
            <a:off x="777960" y="723960"/>
            <a:ext cx="74102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探究“影响浮力大小的因素”时，同学们做了如图所示的一系列实验。请你根据图中所标弹簧测力计的示数等信息回答下列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719280" y="657360"/>
            <a:ext cx="15444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图片 -2147482619" descr="HZX39"/>
          <p:cNvPicPr/>
          <p:nvPr/>
        </p:nvPicPr>
        <p:blipFill>
          <a:blip r:embed="rId1"/>
          <a:stretch/>
        </p:blipFill>
        <p:spPr>
          <a:xfrm>
            <a:off x="1692360" y="2370240"/>
            <a:ext cx="5665680" cy="183672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4"/>
          <p:cNvSpPr/>
          <p:nvPr/>
        </p:nvSpPr>
        <p:spPr>
          <a:xfrm>
            <a:off x="2143080" y="4181400"/>
            <a:ext cx="53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b                 c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5"/>
          <p:cNvSpPr/>
          <p:nvPr/>
        </p:nvSpPr>
        <p:spPr>
          <a:xfrm>
            <a:off x="352440" y="2260440"/>
            <a:ext cx="871380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物体全部浸入水中受到的浮力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根据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实验可得出浮力的大小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根据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实验可得出浮力的大小与排开液体的体积有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-2147482619" descr="HZX39"/>
          <p:cNvPicPr/>
          <p:nvPr/>
        </p:nvPicPr>
        <p:blipFill>
          <a:blip r:embed="rId1"/>
          <a:stretch/>
        </p:blipFill>
        <p:spPr>
          <a:xfrm>
            <a:off x="1668600" y="250920"/>
            <a:ext cx="5667120" cy="1836720"/>
          </a:xfrm>
          <a:prstGeom prst="rect">
            <a:avLst/>
          </a:prstGeom>
          <a:ln w="0">
            <a:noFill/>
          </a:ln>
        </p:spPr>
      </p:pic>
      <p:sp>
        <p:nvSpPr>
          <p:cNvPr id="65" name="矩形 9"/>
          <p:cNvSpPr/>
          <p:nvPr/>
        </p:nvSpPr>
        <p:spPr>
          <a:xfrm>
            <a:off x="7209000" y="2260440"/>
            <a:ext cx="8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549360" y="3263760"/>
            <a:ext cx="183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液体密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4"/>
          <p:cNvSpPr/>
          <p:nvPr/>
        </p:nvSpPr>
        <p:spPr>
          <a:xfrm>
            <a:off x="2120760" y="1940040"/>
            <a:ext cx="53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                  b                 c                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3"/>
          <p:cNvSpPr/>
          <p:nvPr/>
        </p:nvSpPr>
        <p:spPr>
          <a:xfrm>
            <a:off x="3133800" y="3797280"/>
            <a:ext cx="18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4"/>
          <p:cNvSpPr/>
          <p:nvPr/>
        </p:nvSpPr>
        <p:spPr>
          <a:xfrm>
            <a:off x="2665440" y="539640"/>
            <a:ext cx="43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阿基米德原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4"/>
          <p:cNvSpPr/>
          <p:nvPr/>
        </p:nvSpPr>
        <p:spPr>
          <a:xfrm>
            <a:off x="950760" y="50652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16040" y="1560600"/>
            <a:ext cx="7750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内容：浸在液体中的物体受到向上的浮力，浮力的大小等于它排开的液体所受的重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708120" y="2978280"/>
            <a:ext cx="695160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公式：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浮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l-GR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 V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黑体"/>
              </a:rPr>
              <a:t>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5"/>
          <p:cNvSpPr/>
          <p:nvPr/>
        </p:nvSpPr>
        <p:spPr>
          <a:xfrm>
            <a:off x="609480" y="558720"/>
            <a:ext cx="789624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所示，在容器中放一个上、下底面积均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高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cm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体积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80cm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均匀对称石鼓，其下底表面与容器底部完全紧密接触，石鼓受到的浮力是（        ）（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取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0N/k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0                   B.0.3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0.5N             D.0.8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88880" y="482760"/>
            <a:ext cx="15462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1073742865" descr="SH70"/>
          <p:cNvPicPr/>
          <p:nvPr/>
        </p:nvPicPr>
        <p:blipFill>
          <a:blip r:embed="rId1"/>
          <a:stretch/>
        </p:blipFill>
        <p:spPr>
          <a:xfrm>
            <a:off x="5883120" y="2552760"/>
            <a:ext cx="2382840" cy="1407960"/>
          </a:xfrm>
          <a:prstGeom prst="rect">
            <a:avLst/>
          </a:prstGeom>
          <a:ln w="0">
            <a:noFill/>
          </a:ln>
        </p:spPr>
      </p:pic>
      <p:sp>
        <p:nvSpPr>
          <p:cNvPr id="76" name="矩形 9"/>
          <p:cNvSpPr/>
          <p:nvPr/>
        </p:nvSpPr>
        <p:spPr>
          <a:xfrm>
            <a:off x="3355920" y="1957320"/>
            <a:ext cx="81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100160" y="3371760"/>
            <a:ext cx="35780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中间圆柱部分不受浮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10"/>
          <p:cNvSpPr/>
          <p:nvPr/>
        </p:nvSpPr>
        <p:spPr>
          <a:xfrm>
            <a:off x="6846840" y="2771640"/>
            <a:ext cx="0" cy="107964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1"/>
          <p:cNvSpPr/>
          <p:nvPr/>
        </p:nvSpPr>
        <p:spPr>
          <a:xfrm>
            <a:off x="7451640" y="2762280"/>
            <a:ext cx="0" cy="1079640"/>
          </a:xfrm>
          <a:prstGeom prst="line">
            <a:avLst/>
          </a:prstGeom>
          <a:ln w="22320">
            <a:solidFill>
              <a:srgbClr val="ff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74600" y="3854520"/>
            <a:ext cx="472788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80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10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30c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"/>
          <p:cNvSpPr/>
          <p:nvPr/>
        </p:nvSpPr>
        <p:spPr>
          <a:xfrm>
            <a:off x="1089000" y="4317840"/>
            <a:ext cx="706140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F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1" i="1" lang="el-GR" sz="2400" spc="-1" strike="noStrike">
                <a:solidFill>
                  <a:srgbClr val="ff0000"/>
                </a:solidFill>
                <a:latin typeface="Times New Roman"/>
              </a:rPr>
              <a:t>ρ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g V</a:t>
            </a:r>
            <a:r>
              <a:rPr b="1" lang="zh-CN" sz="2400" spc="-1" strike="noStrike" baseline="-25000">
                <a:solidFill>
                  <a:srgbClr val="ff0000"/>
                </a:solidFill>
                <a:latin typeface="Times New Roman"/>
              </a:rPr>
              <a:t>排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=1×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×10×30×1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  <a:ea typeface="黑体"/>
              </a:rPr>
              <a:t>-6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=0.3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4"/>
          <p:cNvSpPr/>
          <p:nvPr/>
        </p:nvSpPr>
        <p:spPr>
          <a:xfrm>
            <a:off x="2013120" y="399960"/>
            <a:ext cx="531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黑体"/>
                <a:ea typeface="黑体"/>
              </a:rPr>
              <a:t>物体的浮沉条件及应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298440" y="366840"/>
            <a:ext cx="1727280" cy="576720"/>
          </a:xfrm>
          <a:prstGeom prst="roundRect">
            <a:avLst>
              <a:gd name="adj" fmla="val 16667"/>
            </a:avLst>
          </a:prstGeom>
          <a:solidFill>
            <a:srgbClr val="0066ff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黑体"/>
              </a:rPr>
              <a:t>知识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"/>
          <p:cNvSpPr/>
          <p:nvPr/>
        </p:nvSpPr>
        <p:spPr>
          <a:xfrm>
            <a:off x="568800" y="1955880"/>
            <a:ext cx="11552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浮沉条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左大括号"/>
          <p:cNvSpPr/>
          <p:nvPr/>
        </p:nvSpPr>
        <p:spPr>
          <a:xfrm flipH="1">
            <a:off x="1657440" y="1130400"/>
            <a:ext cx="108000" cy="3525840"/>
          </a:xfrm>
          <a:custGeom>
            <a:avLst/>
            <a:gdLst/>
            <a:ahLst/>
            <a:rect l="l" t="t" r="r" b="b"/>
            <a:pathLst>
              <a:path w="41" h="281">
                <a:moveTo>
                  <a:pt x="15" y="41"/>
                </a:moveTo>
                <a:cubicBezTo>
                  <a:pt x="15" y="29"/>
                  <a:pt x="13" y="19"/>
                  <a:pt x="11" y="13"/>
                </a:cubicBezTo>
                <a:cubicBezTo>
                  <a:pt x="9" y="7"/>
                  <a:pt x="5" y="2"/>
                  <a:pt x="0" y="0"/>
                </a:cubicBezTo>
                <a:cubicBezTo>
                  <a:pt x="10" y="0"/>
                  <a:pt x="17" y="3"/>
                  <a:pt x="21" y="9"/>
                </a:cubicBezTo>
                <a:cubicBezTo>
                  <a:pt x="25" y="14"/>
                  <a:pt x="27" y="27"/>
                  <a:pt x="27" y="45"/>
                </a:cubicBezTo>
                <a:cubicBezTo>
                  <a:pt x="27" y="103"/>
                  <a:pt x="27" y="103"/>
                  <a:pt x="27" y="103"/>
                </a:cubicBezTo>
                <a:cubicBezTo>
                  <a:pt x="27" y="114"/>
                  <a:pt x="28" y="122"/>
                  <a:pt x="30" y="128"/>
                </a:cubicBezTo>
                <a:cubicBezTo>
                  <a:pt x="32" y="134"/>
                  <a:pt x="35" y="138"/>
                  <a:pt x="41" y="141"/>
                </a:cubicBezTo>
                <a:cubicBezTo>
                  <a:pt x="35" y="143"/>
                  <a:pt x="31" y="147"/>
                  <a:pt x="30" y="153"/>
                </a:cubicBezTo>
                <a:cubicBezTo>
                  <a:pt x="28" y="158"/>
                  <a:pt x="27" y="167"/>
                  <a:pt x="27" y="179"/>
                </a:cubicBezTo>
                <a:cubicBezTo>
                  <a:pt x="27" y="232"/>
                  <a:pt x="27" y="232"/>
                  <a:pt x="27" y="232"/>
                </a:cubicBezTo>
                <a:cubicBezTo>
                  <a:pt x="27" y="245"/>
                  <a:pt x="26" y="255"/>
                  <a:pt x="25" y="262"/>
                </a:cubicBezTo>
                <a:cubicBezTo>
                  <a:pt x="23" y="269"/>
                  <a:pt x="20" y="274"/>
                  <a:pt x="16" y="277"/>
                </a:cubicBezTo>
                <a:cubicBezTo>
                  <a:pt x="12" y="279"/>
                  <a:pt x="7" y="281"/>
                  <a:pt x="0" y="281"/>
                </a:cubicBezTo>
                <a:cubicBezTo>
                  <a:pt x="5" y="279"/>
                  <a:pt x="9" y="274"/>
                  <a:pt x="11" y="268"/>
                </a:cubicBezTo>
                <a:cubicBezTo>
                  <a:pt x="13" y="261"/>
                  <a:pt x="15" y="252"/>
                  <a:pt x="15" y="240"/>
                </a:cubicBezTo>
                <a:cubicBezTo>
                  <a:pt x="15" y="186"/>
                  <a:pt x="15" y="186"/>
                  <a:pt x="15" y="186"/>
                </a:cubicBezTo>
                <a:cubicBezTo>
                  <a:pt x="15" y="172"/>
                  <a:pt x="15" y="162"/>
                  <a:pt x="17" y="155"/>
                </a:cubicBezTo>
                <a:cubicBezTo>
                  <a:pt x="19" y="148"/>
                  <a:pt x="23" y="144"/>
                  <a:pt x="29" y="141"/>
                </a:cubicBezTo>
                <a:cubicBezTo>
                  <a:pt x="23" y="138"/>
                  <a:pt x="19" y="133"/>
                  <a:pt x="17" y="127"/>
                </a:cubicBezTo>
                <a:cubicBezTo>
                  <a:pt x="15" y="121"/>
                  <a:pt x="15" y="111"/>
                  <a:pt x="15" y="98"/>
                </a:cubicBezTo>
                <a:lnTo>
                  <a:pt x="15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"/>
          <p:cNvSpPr/>
          <p:nvPr/>
        </p:nvSpPr>
        <p:spPr>
          <a:xfrm>
            <a:off x="1919160" y="11844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上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15"/>
          <p:cNvSpPr/>
          <p:nvPr/>
        </p:nvSpPr>
        <p:spPr>
          <a:xfrm>
            <a:off x="1919160" y="20844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下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6"/>
          <p:cNvSpPr/>
          <p:nvPr/>
        </p:nvSpPr>
        <p:spPr>
          <a:xfrm>
            <a:off x="1919160" y="298440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漂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17"/>
          <p:cNvSpPr/>
          <p:nvPr/>
        </p:nvSpPr>
        <p:spPr>
          <a:xfrm>
            <a:off x="1919160" y="3882960"/>
            <a:ext cx="11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悬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18"/>
          <p:cNvSpPr/>
          <p:nvPr/>
        </p:nvSpPr>
        <p:spPr>
          <a:xfrm>
            <a:off x="3151080" y="1184400"/>
            <a:ext cx="148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20"/>
          <p:cNvSpPr/>
          <p:nvPr/>
        </p:nvSpPr>
        <p:spPr>
          <a:xfrm>
            <a:off x="4862520" y="1184400"/>
            <a:ext cx="159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22"/>
          <p:cNvSpPr/>
          <p:nvPr/>
        </p:nvSpPr>
        <p:spPr>
          <a:xfrm>
            <a:off x="3165480" y="2084400"/>
            <a:ext cx="1488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23"/>
          <p:cNvSpPr/>
          <p:nvPr/>
        </p:nvSpPr>
        <p:spPr>
          <a:xfrm>
            <a:off x="4862520" y="2084400"/>
            <a:ext cx="159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5"/>
          <p:cNvSpPr/>
          <p:nvPr/>
        </p:nvSpPr>
        <p:spPr>
          <a:xfrm>
            <a:off x="3151080" y="2984400"/>
            <a:ext cx="148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文本框 26"/>
          <p:cNvSpPr/>
          <p:nvPr/>
        </p:nvSpPr>
        <p:spPr>
          <a:xfrm>
            <a:off x="4862520" y="2984400"/>
            <a:ext cx="159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&gt;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7"/>
          <p:cNvSpPr/>
          <p:nvPr/>
        </p:nvSpPr>
        <p:spPr>
          <a:xfrm>
            <a:off x="3151080" y="3882960"/>
            <a:ext cx="148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F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</a:rPr>
              <a:t>浮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28"/>
          <p:cNvSpPr/>
          <p:nvPr/>
        </p:nvSpPr>
        <p:spPr>
          <a:xfrm>
            <a:off x="4862520" y="3882960"/>
            <a:ext cx="1592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液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ρ</a:t>
            </a:r>
            <a:r>
              <a:rPr b="1" lang="zh-CN" sz="2800" spc="-1" strike="noStrike" baseline="-25000">
                <a:solidFill>
                  <a:srgbClr val="ff0000"/>
                </a:solidFill>
                <a:latin typeface="Times New Roman"/>
                <a:ea typeface="黑体"/>
              </a:rPr>
              <a:t>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3:22:00Z</dcterms:created>
  <dc:creator/>
  <dc:description/>
  <dc:language>en-US</dc:language>
  <cp:lastModifiedBy>Administrator</cp:lastModifiedBy>
  <dcterms:modified xsi:type="dcterms:W3CDTF">2019-01-09T08:22:48Z</dcterms:modified>
  <cp:revision>843</cp:revision>
  <dc:subject/>
  <dc:title>本章复习和总结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